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DA5E-311E-45A2-A7CA-2D328B40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CDBC-CE55-4096-A0BF-B02FF6CA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50F20-F356-4423-AD2A-2D395158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19CF9-0069-4D9D-A87D-17F3A808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0A0FE-A09C-4645-A1F4-C0AF4E3B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B4A4A-3E8F-46C8-82FF-043A0949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06E20-8018-45EB-9A3D-267031B4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15601-FB4B-46B2-868C-2408F910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1DD52-407A-4B98-9F8E-54982519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A2418-F831-412C-BEC5-30199D717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C70B9-EE2E-4F16-9576-7A05228C2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626FC-A050-4CF3-99C4-5C6D528A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1C27-9F0C-4C53-A4A6-B62DB174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A7604-49EC-4912-949F-F9ED19EA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35888-5824-4340-AF06-B4EB8A3F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01B88-F7A0-4FCA-9195-54D7F364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A462A-6E4F-4F10-8DDF-E8514E11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3339F-FAB1-4AE3-832D-4DEB0A29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C9140-F99F-413E-ACFB-BC658708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A9245-B246-41BA-B1FD-6A32C520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F0D29-C309-4344-8DEC-28914E8B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5BF4DE-B034-4C89-A01B-B68A2E6A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E2CE6-7B2F-45D3-AE77-FD03FE09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3A51-83E6-4CBE-9EC7-04F1C0226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77609-549A-4DD4-B494-CCBDFCED3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1BFDA-F536-4152-9A16-8C9B58059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EB12A-9989-4F46-9FB0-2E67BD85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9AD4C-BE26-4E99-8823-766E2717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7EA50-5F90-4C4D-9CD7-5CCB0425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44654-994C-4537-A017-3186892E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D5D98-FFAB-47F4-9577-77D84F82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3B28A-ED38-47C3-978F-24E27229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7C43D-8471-4E2A-BB95-7BD25F14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E071D-87A2-4787-9E6F-36CF460C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B568-A942-4B2F-B7D9-60A63924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8A25F-4A50-42E6-BE11-C83CB68F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B60D7-6A11-49A1-B15F-AAD08E45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75D67-B167-4AD7-9CB0-1B9B33AF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FE6E3-6EE3-495C-91D8-5B602F6C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AC36A-8BAF-40D4-84F9-AD3AFF25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D2670-4A06-47C1-BE90-AD8F0173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AC698F-CBBC-48F7-BCDA-E3C374AA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894C54-88DB-4079-BCC7-4646AC99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05314-260D-4738-BDA1-CBA7C502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6896E-1664-4216-A713-9588308A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C08D-2A92-4C69-91CE-4651425A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60938E-76A4-4965-AE37-3746DE9F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70046-BF2D-4853-B8C0-A20797AE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204C3C-D3B5-4123-A4AE-07542975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DF023-D370-49D0-90B3-5EFE3CD7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A9357-BADF-4558-B8CF-55339991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4D1E05-2B8F-4454-92E5-CD0C4B6D4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055172-17E4-4368-A0B8-FE6487A2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89FE20-DB8D-4E48-97E5-530AEF37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A3B057-0CC6-4DCF-94A0-EE246CDF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955B88-B40D-400E-A210-AEBA76A7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D6E1-8347-4D3C-AC5E-401092CC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A1ED10-2CED-4C0A-B11B-E8E31F16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231047-FC03-4F5C-AE82-C8394475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504541-A78C-4F8C-A943-B37C1207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C09F60-0FEC-4C75-A1A1-D36AF5FD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C76CB0-DF5F-4D5C-865C-386E162D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80B633-4A21-47C5-A0BE-1359BB5A7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DB71B5-95E6-46B7-A4CC-BEB41C30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94CD88-97A0-48D8-8DB6-DEB78F82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C6AB68-BD2C-459C-A619-923C1799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CE1847-C601-401B-AD25-99F1D703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AB33-F68E-4C7B-9EDA-CDB8D674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407C21-A32F-4B4F-AEE0-11579631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545DD2-FA56-42C5-8072-4D5389DA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354ECC-1E4A-4C3D-877E-221A3589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F810AA-E06E-438E-93E0-AEA6B6FB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6AA905-73C2-4903-904D-B0B7E9C8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D3BC20-6B61-4D83-BA1D-C4B0AF09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799C31-EA84-4C34-907E-BA38108B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7B35FE-D32D-49B7-BDFF-A5FE38401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ABDF9B-8897-4AF4-9C51-743A98D1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A45015-D0E5-4E3B-B3E4-98709096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E793-EE97-4987-B019-BCCAA864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46678D-9501-472D-814A-35108984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53B5E2-F6C9-403E-83F9-D5062011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90952A-02B6-4BBA-96F5-1F3263BD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B9BA9A-4809-4B6E-87BD-3EEDC530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56CD73-E2E2-4CB4-997B-E42C5009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A3EE17-C990-419F-9EBC-58307022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51C24C-A6CD-4E62-8002-63283C2B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94A08D-B520-434F-857C-B9241BAC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46D8F9-5FDF-415D-A113-E597EB89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55A33A-9349-4399-B5A8-33D2FCC99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605D-B628-478A-9D08-26AA4177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1E02A9-834C-4A3C-BBE7-44BB14C15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1C9778-7502-46D2-AC13-15FAA156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727DD8-13B2-4C17-A492-21EFA4F2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813E1D-6254-445C-A963-D41A670B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2AEE24-F46A-4C1A-9EEF-8C03C2AC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78217B-FBFA-4C8B-962E-8B6FEC6E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5024A4-CCDE-4AD5-A312-4239CB7B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CFAEBB-12D7-4753-890A-DE81FF6E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B0C4AA-1EF6-4052-BAEA-20120E74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D7572A-8853-44D4-910B-CF477BF7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5DFE-9673-46F1-98CF-EE3C6089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2DDA1A-7C20-4828-A565-D90D13F8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9A2ECF-EAA5-4EF7-84F4-8EC47BF93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8C1AF6-8875-4098-9C9D-F0B30305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CCF781-F227-49CE-B274-465EA32E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FD51C6-6412-4DC9-ACAB-96BD73A0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934A49-72D2-4501-9781-9E4BEAE5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C68DA7-F099-4728-A0E0-41430EDF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3E04CA-F49C-4070-BA7B-12FBF845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BF34DF-9C0C-4F9D-A00C-751FE697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44F4E4-CA85-4CF8-97DE-C11C5F18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EF6F-F7F3-4F48-9F2C-531749D4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917C-AFE6-4509-B7A6-06FD3C5B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2B3650-7E2D-46B3-A4DA-49F773B6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B91131-7B78-459C-B69B-F24C176A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8BD573-32BE-4D6C-A886-C72BED43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11F0FC-4B45-40DD-87F5-C9E51C2A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46F271-D6A2-462E-B0CF-BD0E2544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406B5B-41BD-460D-83C0-D01AFDE1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9E9FE4-1848-4F23-AC29-D7A7D7C3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1CC7B2-870E-477A-AC04-F3ACAFD4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A6BE6D-F123-4233-A4A0-9331CB33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1E033A-D835-477C-9177-1884DE7D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FB52-7508-416F-9395-FE7914D5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98FF6F-CF5B-484E-88F2-9098290A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8CD744-3F17-4CC9-BA20-EE89E17E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826BCE-7117-4C16-A692-1D8AA006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10CC29-2A83-4A2F-832E-6DC536C4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E8580B-1579-4F22-9036-BD0DE4E7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CEDF92-54D8-455E-97FD-488CA8597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B59837-FCA1-4C15-BD73-9AA47800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B35D8B-E683-4727-B38C-5560BE78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89B0E9-3F19-41CC-9046-1402C407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6F5072-7708-4E56-A667-DB7BFC05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BA27-E825-4B13-84EC-8DBDF813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553ADF-667D-42E2-A0F4-F9D0479B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3E6E94-DC3E-4D0F-93DC-8E96D1E4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038C1C-B8A8-4E06-B590-60D47C61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DB89F2-83DF-4A39-9FEF-C28F5C50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6574B5-A6A5-425F-BF23-2B0F3D75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B54AD2-5FC5-40D7-806E-1ADAC2A0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519F12-F359-4C61-A262-18A35FF1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290CA8-0B36-4567-8BD6-0F36FFB2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427254-3F08-4129-A0E1-CDAAA1A9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41F059-2E26-488E-A36E-A7D0B3A8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1193-1F3E-4B82-BBEC-BDF558AFE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E3BCC2-6304-4246-AF2F-B4B41725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62B7A4-E21E-438A-B288-1FB116C3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A8095A-A955-4855-A7D3-13EDA7F9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9CEFA6-B46F-4102-98F7-BC6A4D07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21D621-3755-45FA-A408-9A04B7E1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984C81-4022-44D9-8784-21C16E67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6E42CB-553C-419C-8157-7DC0C199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0E2226-1B02-4000-80AF-97E0A89F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606862-1453-474E-A6DC-8F30D574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FCDA7C-90AE-401A-9AFE-7253DD39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C38C-7731-4D18-8D54-B9AB1A60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B256E8-5F4B-43C8-A54D-CC403D601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6FF45-070C-432B-BD8A-DBB4D9033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35453-9476-4C8E-8513-4247294E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8FC91-126D-4C5C-9855-7372E8F5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90B5F-246B-4B38-A17E-5DCD1522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6EF6F-3236-464F-B795-C39B2E59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EC1D-19F1-4CA9-A76C-B71F8171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85C7E-1982-4BC6-8487-69D068C8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D83FF-5AEE-49ED-AC34-DB498E1F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2639D-30F7-4FBC-B144-FD656798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44CE5-9621-4EE7-B2A7-EA1C5ECA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5EFA8-18C5-4A72-B0C1-79202080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17350-0858-4A28-97FD-86E7F65C7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881A1-A097-4340-8A5C-C18626F8D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B0320E-5F6D-41B6-A9E1-12A73C33B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5708ED-B03A-4FC5-8232-49B22C9B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4D8B1C-7E54-42DC-A77B-E115DFCA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5473-F96F-4FB1-BA7A-426DE45F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F5FD55-9A20-40B1-ACFD-D73B25FA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E09228-401B-42A1-BC67-8FCD5E4A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B54DCA-335F-4E82-BF51-1757AA73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FF21EA-0E36-4F20-AFEE-1138FAA9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2323AF-6192-41AF-B9A1-66E0A13A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C6C620-6EB3-4F24-B1EB-A83E4B45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9DA83A-2E9A-4E55-A338-55D720AF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EB4936-4032-4735-9453-722F8A14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75E52D-9B3D-42EC-8796-FC624E4C5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E2221-877B-4CF6-AEA4-0F4D944D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F5D3-FB81-4DED-8EDD-64F20700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9EA90-07EC-4F8A-8D66-2FB45BEE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FF18F-601C-465F-AE1D-9EA70008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4B47A-48AF-4A8D-BA8D-4F2F0F01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BCC81-975C-4AEA-8E99-E5E6EB36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B40B0-56D5-4B66-AEAD-368EF556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8F8CC-3916-4189-AE81-4FB84F36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9E419-FDBF-4730-B889-FDF67158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49D3E-1C04-471C-A8E3-B97444CA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4FA1F-BD58-4553-A144-78B1FC00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6884F-509A-4B21-BFFB-E03BEADF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5EF9-5B30-492F-BA20-802A69D6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DD3BB-58C5-40E0-835F-A4F690771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95953-E02D-450D-B410-2DF6E911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AB594-2F91-4AB0-BD36-10D1A5CE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AE69A-332C-4EFB-AA7F-4DC68524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681A2-D1AA-4365-88D1-1A9BDD76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EF331-1C23-4D61-9758-283933FE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8F070-AA4B-4279-9FA8-EF499F7E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C12AA-C328-4E38-8512-36C092EE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FF1B9-DC46-452D-8717-9AEF0C75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8A6B7-6705-43F9-B95C-97FB8B0C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EDD9-4F77-418E-A54E-D79C2A4D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F809B-735C-4C45-82D1-58D8F435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0C1E8-89DD-46C8-96D1-01B4E9647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73017-8975-48FB-82DF-35BA9379E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243DA-A610-40FE-ABC4-425C4C2B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36711-9568-47A2-9B74-1F10F63A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0A819-7945-45AD-83D4-43076273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F5172-EE01-450B-9367-9FF63553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D5763-905A-461D-BDEC-223E4D5B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305CF-3ADE-46B8-997A-580F3C00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B8367-F74A-4D4E-ABF5-78CC150D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03B5-7DFD-452E-9BA6-144F3E18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3DA3F-2B0B-4FA4-81B5-DA6F73AB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8D89B-6F9D-4A18-93D6-D5FEC88C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1D608-DCB0-421F-B2CD-DF38D603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281D0-5F7C-4012-92A9-703C9692D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2674C-D0B1-4E98-9E4A-C726389F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700E9-E76D-471E-8AF7-13BBBF809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B304A-2AB8-4125-9DC1-89D0143F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EDE3D-DEF4-46E5-9B8A-A58D5AD1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1A149-A4D8-4473-B230-3F2501EE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75D6F-9FB1-4816-A9FE-714FC064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70F4-099B-4B32-AE4A-F1DC4552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26BCC-BD38-4218-8736-E3EBD92C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D01FF-6F82-49AB-985A-D5714D5D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0C805-9E2D-40A3-86EA-100F3A24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0CC7E-105E-4117-A3F3-7224A3AC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8A0F4-DDE0-455F-B10B-29075DFC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5251E-27F1-4FCE-B29C-7450326CD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D79C6-3DF8-473E-9349-12B190BD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45C95-8713-4BE2-ACBA-9990A835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77AC5-2513-4CD3-8795-7C2962D8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3911C-65E6-4B71-8306-39CA7ED9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28F2-8B72-488E-95E9-69E2B7243A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图片 7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B507-28A3-4F96-BAFB-5A6DF8B00A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A163-63FE-4670-B4BD-BECAE2B58F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图片 7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F58D-9719-4035-BB6E-333B519256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4875-76D3-44A3-BB11-86CE2317C4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图片 5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3001-C704-461F-BADC-37CD95C31A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6CB5-029C-491E-8962-B64E2096DF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5"/>
          <p:cNvGrpSpPr/>
          <p:nvPr/>
        </p:nvGrpSpPr>
        <p:grpSpPr>
          <a:xfrm>
            <a:off x="-781200" y="3821040"/>
            <a:ext cx="10780920" cy="3041640"/>
            <a:chOff x="-781200" y="3821040"/>
            <a:chExt cx="10780920" cy="3041640"/>
          </a:xfrm>
        </p:grpSpPr>
        <p:sp>
          <p:nvSpPr>
            <p:cNvPr id="527" name="任意多边形: 形状 6"/>
            <p:cNvSpPr/>
            <p:nvPr/>
          </p:nvSpPr>
          <p:spPr>
            <a:xfrm>
              <a:off x="-781200" y="3821040"/>
              <a:ext cx="10780920" cy="3041640"/>
            </a:xfrm>
            <a:custGeom>
              <a:avLst/>
              <a:gdLst/>
              <a:ahLst/>
              <a:rect l="l" t="t" r="r" b="b"/>
              <a:pathLst>
                <a:path w="16099157" h="4574668">
                  <a:moveTo>
                    <a:pt x="0" y="4574667"/>
                  </a:moveTo>
                  <a:cubicBezTo>
                    <a:pt x="3044190" y="1857883"/>
                    <a:pt x="9254618" y="0"/>
                    <a:pt x="16099156" y="4574667"/>
                  </a:cubicBezTo>
                  <a:close/>
                </a:path>
              </a:pathLst>
            </a:custGeom>
            <a:solidFill>
              <a:srgbClr val="e77d5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任意多边形: 形状 7"/>
            <p:cNvSpPr/>
            <p:nvPr/>
          </p:nvSpPr>
          <p:spPr>
            <a:xfrm>
              <a:off x="-79200" y="4417560"/>
              <a:ext cx="9132840" cy="2445120"/>
            </a:xfrm>
            <a:custGeom>
              <a:avLst/>
              <a:gdLst/>
              <a:ahLst/>
              <a:rect l="l" t="t" r="r" b="b"/>
              <a:pathLst>
                <a:path w="13637642" h="3677413">
                  <a:moveTo>
                    <a:pt x="0" y="3677412"/>
                  </a:moveTo>
                  <a:cubicBezTo>
                    <a:pt x="2578735" y="1493520"/>
                    <a:pt x="7839583" y="0"/>
                    <a:pt x="13637641" y="3677412"/>
                  </a:cubicBezTo>
                  <a:close/>
                </a:path>
              </a:pathLst>
            </a:custGeom>
            <a:solidFill>
              <a:srgbClr val="919d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任意多边形: 形状 8"/>
            <p:cNvSpPr/>
            <p:nvPr/>
          </p:nvSpPr>
          <p:spPr>
            <a:xfrm>
              <a:off x="898200" y="4957560"/>
              <a:ext cx="7160040" cy="1905120"/>
            </a:xfrm>
            <a:custGeom>
              <a:avLst/>
              <a:gdLst/>
              <a:ahLst/>
              <a:rect l="l" t="t" r="r" b="b"/>
              <a:pathLst>
                <a:path w="10692004" h="2865502">
                  <a:moveTo>
                    <a:pt x="0" y="2865501"/>
                  </a:moveTo>
                  <a:cubicBezTo>
                    <a:pt x="2021713" y="1163701"/>
                    <a:pt x="6146292" y="0"/>
                    <a:pt x="10692003" y="2865501"/>
                  </a:cubicBezTo>
                  <a:close/>
                </a:path>
              </a:pathLst>
            </a:custGeom>
            <a:solidFill>
              <a:srgbClr val="c66b6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任意多边形: 形状 9"/>
            <p:cNvSpPr/>
            <p:nvPr/>
          </p:nvSpPr>
          <p:spPr>
            <a:xfrm>
              <a:off x="1163880" y="5419440"/>
              <a:ext cx="6534000" cy="1428840"/>
            </a:xfrm>
            <a:custGeom>
              <a:avLst/>
              <a:gdLst/>
              <a:ahLst/>
              <a:rect l="l" t="t" r="r" b="b"/>
              <a:pathLst>
                <a:path w="9757284" h="2148841">
                  <a:moveTo>
                    <a:pt x="0" y="2148840"/>
                  </a:moveTo>
                  <a:cubicBezTo>
                    <a:pt x="1662303" y="1125728"/>
                    <a:pt x="4767707" y="0"/>
                    <a:pt x="9757283" y="2148840"/>
                  </a:cubicBezTo>
                  <a:close/>
                </a:path>
              </a:pathLst>
            </a:custGeom>
            <a:solidFill>
              <a:srgbClr val="ebe46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任意多边形: 形状 10"/>
            <p:cNvSpPr/>
            <p:nvPr/>
          </p:nvSpPr>
          <p:spPr>
            <a:xfrm>
              <a:off x="2058480" y="5843880"/>
              <a:ext cx="4857840" cy="1004040"/>
            </a:xfrm>
            <a:custGeom>
              <a:avLst/>
              <a:gdLst/>
              <a:ahLst/>
              <a:rect l="l" t="t" r="r" b="b"/>
              <a:pathLst>
                <a:path w="7253987" h="1510158">
                  <a:moveTo>
                    <a:pt x="0" y="1510157"/>
                  </a:moveTo>
                  <a:cubicBezTo>
                    <a:pt x="1235837" y="791083"/>
                    <a:pt x="3544443" y="0"/>
                    <a:pt x="7253986" y="1510157"/>
                  </a:cubicBezTo>
                  <a:close/>
                </a:path>
              </a:pathLst>
            </a:custGeom>
            <a:solidFill>
              <a:srgbClr val="7fc26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任意多边形: 形状 11"/>
            <p:cNvSpPr/>
            <p:nvPr/>
          </p:nvSpPr>
          <p:spPr>
            <a:xfrm>
              <a:off x="3077280" y="6378840"/>
              <a:ext cx="2944440" cy="469440"/>
            </a:xfrm>
            <a:custGeom>
              <a:avLst/>
              <a:gdLst/>
              <a:ahLst/>
              <a:rect l="l" t="t" r="r" b="b"/>
              <a:pathLst>
                <a:path w="4396868" h="705994">
                  <a:moveTo>
                    <a:pt x="0" y="705993"/>
                  </a:moveTo>
                  <a:cubicBezTo>
                    <a:pt x="1465580" y="207518"/>
                    <a:pt x="2581021" y="0"/>
                    <a:pt x="4396867" y="705993"/>
                  </a:cubicBezTo>
                  <a:close/>
                </a:path>
              </a:pathLst>
            </a:custGeom>
            <a:solidFill>
              <a:srgbClr val="c284b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组合 12"/>
          <p:cNvGrpSpPr/>
          <p:nvPr/>
        </p:nvGrpSpPr>
        <p:grpSpPr>
          <a:xfrm>
            <a:off x="5151600" y="1397160"/>
            <a:ext cx="3411360" cy="4392360"/>
            <a:chOff x="5151600" y="1397160"/>
            <a:chExt cx="3411360" cy="4392360"/>
          </a:xfrm>
        </p:grpSpPr>
        <p:grpSp>
          <p:nvGrpSpPr>
            <p:cNvPr id="534" name="组合 13"/>
            <p:cNvGrpSpPr/>
            <p:nvPr/>
          </p:nvGrpSpPr>
          <p:grpSpPr>
            <a:xfrm>
              <a:off x="6642720" y="1397160"/>
              <a:ext cx="1920240" cy="4392360"/>
              <a:chOff x="6642720" y="1397160"/>
              <a:chExt cx="1920240" cy="4392360"/>
            </a:xfrm>
          </p:grpSpPr>
          <p:sp>
            <p:nvSpPr>
              <p:cNvPr id="535" name="任意多边形: 形状 44"/>
              <p:cNvSpPr/>
              <p:nvPr/>
            </p:nvSpPr>
            <p:spPr>
              <a:xfrm>
                <a:off x="7778160" y="4055760"/>
                <a:ext cx="293760" cy="1731960"/>
              </a:xfrm>
              <a:custGeom>
                <a:avLst/>
                <a:gdLst/>
                <a:ahLst/>
                <a:rect l="l" t="t" r="r" b="b"/>
                <a:pathLst>
                  <a:path w="552831" h="2443226">
                    <a:moveTo>
                      <a:pt x="337312" y="84328"/>
                    </a:moveTo>
                    <a:lnTo>
                      <a:pt x="552831" y="2443226"/>
                    </a:lnTo>
                    <a:lnTo>
                      <a:pt x="285369" y="2412365"/>
                    </a:lnTo>
                    <a:lnTo>
                      <a:pt x="0" y="0"/>
                    </a:lnTo>
                    <a:lnTo>
                      <a:pt x="337312" y="84328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任意多边形: 形状 45"/>
              <p:cNvSpPr/>
              <p:nvPr/>
            </p:nvSpPr>
            <p:spPr>
              <a:xfrm>
                <a:off x="7949520" y="4129920"/>
                <a:ext cx="172080" cy="1659600"/>
              </a:xfrm>
              <a:custGeom>
                <a:avLst/>
                <a:gdLst/>
                <a:ahLst/>
                <a:rect l="l" t="t" r="r" b="b"/>
                <a:pathLst>
                  <a:path w="324231" h="2341118">
                    <a:moveTo>
                      <a:pt x="324231" y="2290064"/>
                    </a:moveTo>
                    <a:lnTo>
                      <a:pt x="233426" y="2341118"/>
                    </a:lnTo>
                    <a:lnTo>
                      <a:pt x="0" y="0"/>
                    </a:lnTo>
                    <a:lnTo>
                      <a:pt x="95250" y="19558"/>
                    </a:lnTo>
                    <a:lnTo>
                      <a:pt x="324231" y="2290064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任意多边形: 形状 46"/>
              <p:cNvSpPr/>
              <p:nvPr/>
            </p:nvSpPr>
            <p:spPr>
              <a:xfrm>
                <a:off x="7783560" y="1410840"/>
                <a:ext cx="96480" cy="464040"/>
              </a:xfrm>
              <a:custGeom>
                <a:avLst/>
                <a:gdLst/>
                <a:ahLst/>
                <a:rect l="l" t="t" r="r" b="b"/>
                <a:pathLst>
                  <a:path w="181610" h="655066">
                    <a:moveTo>
                      <a:pt x="181610" y="58420"/>
                    </a:moveTo>
                    <a:lnTo>
                      <a:pt x="90805" y="0"/>
                    </a:lnTo>
                    <a:lnTo>
                      <a:pt x="0" y="645287"/>
                    </a:lnTo>
                    <a:lnTo>
                      <a:pt x="100584" y="655066"/>
                    </a:lnTo>
                    <a:lnTo>
                      <a:pt x="181610" y="58420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任意多边形: 形状 47"/>
              <p:cNvSpPr/>
              <p:nvPr/>
            </p:nvSpPr>
            <p:spPr>
              <a:xfrm>
                <a:off x="6642720" y="4001400"/>
                <a:ext cx="592920" cy="1553760"/>
              </a:xfrm>
              <a:custGeom>
                <a:avLst/>
                <a:gdLst/>
                <a:ahLst/>
                <a:rect l="l" t="t" r="r" b="b"/>
                <a:pathLst>
                  <a:path w="1115315" h="2191894">
                    <a:moveTo>
                      <a:pt x="793242" y="0"/>
                    </a:moveTo>
                    <a:lnTo>
                      <a:pt x="0" y="2055749"/>
                    </a:lnTo>
                    <a:lnTo>
                      <a:pt x="285369" y="2191893"/>
                    </a:lnTo>
                    <a:lnTo>
                      <a:pt x="1067181" y="110236"/>
                    </a:lnTo>
                    <a:lnTo>
                      <a:pt x="1115314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任意多边形: 形状 48"/>
              <p:cNvSpPr/>
              <p:nvPr/>
            </p:nvSpPr>
            <p:spPr>
              <a:xfrm>
                <a:off x="7999920" y="4143960"/>
                <a:ext cx="331920" cy="1107720"/>
              </a:xfrm>
              <a:custGeom>
                <a:avLst/>
                <a:gdLst/>
                <a:ahLst/>
                <a:rect l="l" t="t" r="r" b="b"/>
                <a:pathLst>
                  <a:path w="624587" h="1562863">
                    <a:moveTo>
                      <a:pt x="371602" y="1562862"/>
                    </a:moveTo>
                    <a:lnTo>
                      <a:pt x="0" y="0"/>
                    </a:lnTo>
                    <a:lnTo>
                      <a:pt x="228981" y="26035"/>
                    </a:lnTo>
                    <a:lnTo>
                      <a:pt x="624586" y="1562862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任意多边形: 形状 49"/>
              <p:cNvSpPr/>
              <p:nvPr/>
            </p:nvSpPr>
            <p:spPr>
              <a:xfrm>
                <a:off x="8121960" y="4161960"/>
                <a:ext cx="254880" cy="1089720"/>
              </a:xfrm>
              <a:custGeom>
                <a:avLst/>
                <a:gdLst/>
                <a:ahLst/>
                <a:rect l="l" t="t" r="r" b="b"/>
                <a:pathLst>
                  <a:path w="479806" h="1537335">
                    <a:moveTo>
                      <a:pt x="479806" y="1476375"/>
                    </a:moveTo>
                    <a:lnTo>
                      <a:pt x="395605" y="1537335"/>
                    </a:lnTo>
                    <a:lnTo>
                      <a:pt x="0" y="508"/>
                    </a:lnTo>
                    <a:lnTo>
                      <a:pt x="83312" y="0"/>
                    </a:lnTo>
                    <a:lnTo>
                      <a:pt x="479806" y="1476375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任意多边形: 形状 50"/>
              <p:cNvSpPr/>
              <p:nvPr/>
            </p:nvSpPr>
            <p:spPr>
              <a:xfrm>
                <a:off x="8332200" y="2079720"/>
                <a:ext cx="230760" cy="2114640"/>
              </a:xfrm>
              <a:custGeom>
                <a:avLst/>
                <a:gdLst/>
                <a:ahLst/>
                <a:rect l="l" t="t" r="r" b="b"/>
                <a:pathLst>
                  <a:path w="434467" h="2983103">
                    <a:moveTo>
                      <a:pt x="434467" y="58293"/>
                    </a:moveTo>
                    <a:lnTo>
                      <a:pt x="343662" y="0"/>
                    </a:lnTo>
                    <a:lnTo>
                      <a:pt x="0" y="2983103"/>
                    </a:lnTo>
                    <a:lnTo>
                      <a:pt x="77724" y="2957195"/>
                    </a:lnTo>
                    <a:lnTo>
                      <a:pt x="434467" y="58293"/>
                    </a:lnTo>
                  </a:path>
                </a:pathLst>
              </a:custGeom>
              <a:solidFill>
                <a:srgbClr val="b27d4d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任意多边形: 形状 51"/>
              <p:cNvSpPr/>
              <p:nvPr/>
            </p:nvSpPr>
            <p:spPr>
              <a:xfrm>
                <a:off x="7500960" y="1854360"/>
                <a:ext cx="358560" cy="217800"/>
              </a:xfrm>
              <a:custGeom>
                <a:avLst/>
                <a:gdLst/>
                <a:ahLst/>
                <a:rect l="l" t="t" r="r" b="b"/>
                <a:pathLst>
                  <a:path w="674497" h="307467">
                    <a:moveTo>
                      <a:pt x="57277" y="0"/>
                    </a:moveTo>
                    <a:lnTo>
                      <a:pt x="0" y="300990"/>
                    </a:lnTo>
                    <a:lnTo>
                      <a:pt x="648589" y="307467"/>
                    </a:lnTo>
                    <a:lnTo>
                      <a:pt x="674497" y="28829"/>
                    </a:lnTo>
                    <a:lnTo>
                      <a:pt x="57277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任意多边形: 形状 52"/>
              <p:cNvSpPr/>
              <p:nvPr/>
            </p:nvSpPr>
            <p:spPr>
              <a:xfrm>
                <a:off x="7845840" y="1872720"/>
                <a:ext cx="46800" cy="199440"/>
              </a:xfrm>
              <a:custGeom>
                <a:avLst/>
                <a:gdLst/>
                <a:ahLst/>
                <a:rect l="l" t="t" r="r" b="b"/>
                <a:pathLst>
                  <a:path w="88265" h="281559">
                    <a:moveTo>
                      <a:pt x="88265" y="50165"/>
                    </a:moveTo>
                    <a:lnTo>
                      <a:pt x="21971" y="0"/>
                    </a:lnTo>
                    <a:lnTo>
                      <a:pt x="0" y="281559"/>
                    </a:lnTo>
                    <a:lnTo>
                      <a:pt x="64770" y="277241"/>
                    </a:lnTo>
                    <a:lnTo>
                      <a:pt x="88265" y="50165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任意多边形: 形状 53"/>
              <p:cNvSpPr/>
              <p:nvPr/>
            </p:nvSpPr>
            <p:spPr>
              <a:xfrm>
                <a:off x="7609320" y="1397160"/>
                <a:ext cx="222120" cy="470880"/>
              </a:xfrm>
              <a:custGeom>
                <a:avLst/>
                <a:gdLst/>
                <a:ahLst/>
                <a:rect l="l" t="t" r="r" b="b"/>
                <a:pathLst>
                  <a:path w="418338" h="664718">
                    <a:moveTo>
                      <a:pt x="113538" y="0"/>
                    </a:moveTo>
                    <a:lnTo>
                      <a:pt x="418338" y="19431"/>
                    </a:lnTo>
                    <a:lnTo>
                      <a:pt x="327533" y="664718"/>
                    </a:lnTo>
                    <a:lnTo>
                      <a:pt x="0" y="656717"/>
                    </a:lnTo>
                    <a:lnTo>
                      <a:pt x="113538" y="0"/>
                    </a:lnTo>
                  </a:path>
                </a:pathLst>
              </a:custGeom>
              <a:solidFill>
                <a:srgbClr val="b29351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任意多边形: 形状 54"/>
              <p:cNvSpPr/>
              <p:nvPr/>
            </p:nvSpPr>
            <p:spPr>
              <a:xfrm>
                <a:off x="6794280" y="4079520"/>
                <a:ext cx="455040" cy="1475640"/>
              </a:xfrm>
              <a:custGeom>
                <a:avLst/>
                <a:gdLst/>
                <a:ahLst/>
                <a:rect l="l" t="t" r="r" b="b"/>
                <a:pathLst>
                  <a:path w="856107" h="2081657">
                    <a:moveTo>
                      <a:pt x="856107" y="8763"/>
                    </a:moveTo>
                    <a:lnTo>
                      <a:pt x="149352" y="2049272"/>
                    </a:lnTo>
                    <a:lnTo>
                      <a:pt x="0" y="2081657"/>
                    </a:lnTo>
                    <a:lnTo>
                      <a:pt x="781812" y="0"/>
                    </a:lnTo>
                    <a:lnTo>
                      <a:pt x="856107" y="8763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任意多边形: 形状 55"/>
              <p:cNvSpPr/>
              <p:nvPr/>
            </p:nvSpPr>
            <p:spPr>
              <a:xfrm>
                <a:off x="6887160" y="5075640"/>
                <a:ext cx="1018800" cy="427320"/>
              </a:xfrm>
              <a:custGeom>
                <a:avLst/>
                <a:gdLst/>
                <a:ahLst/>
                <a:rect l="l" t="t" r="r" b="b"/>
                <a:pathLst>
                  <a:path w="1916303" h="602996">
                    <a:moveTo>
                      <a:pt x="1916303" y="602996"/>
                    </a:moveTo>
                    <a:lnTo>
                      <a:pt x="0" y="217932"/>
                    </a:lnTo>
                    <a:lnTo>
                      <a:pt x="81407" y="0"/>
                    </a:lnTo>
                    <a:lnTo>
                      <a:pt x="1888490" y="319913"/>
                    </a:lnTo>
                    <a:lnTo>
                      <a:pt x="1916303" y="602996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任意多边形: 形状 56"/>
              <p:cNvSpPr/>
              <p:nvPr/>
            </p:nvSpPr>
            <p:spPr>
              <a:xfrm>
                <a:off x="6930360" y="5066280"/>
                <a:ext cx="960480" cy="235800"/>
              </a:xfrm>
              <a:custGeom>
                <a:avLst/>
                <a:gdLst/>
                <a:ahLst/>
                <a:rect l="l" t="t" r="r" b="b"/>
                <a:pathLst>
                  <a:path w="1807083" h="332994">
                    <a:moveTo>
                      <a:pt x="115697" y="0"/>
                    </a:moveTo>
                    <a:lnTo>
                      <a:pt x="0" y="13081"/>
                    </a:lnTo>
                    <a:lnTo>
                      <a:pt x="1807083" y="332994"/>
                    </a:lnTo>
                    <a:lnTo>
                      <a:pt x="1800606" y="272415"/>
                    </a:lnTo>
                    <a:lnTo>
                      <a:pt x="115697" y="0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任意多边形: 形状 57"/>
              <p:cNvSpPr/>
              <p:nvPr/>
            </p:nvSpPr>
            <p:spPr>
              <a:xfrm>
                <a:off x="6732360" y="2056680"/>
                <a:ext cx="1782360" cy="2137680"/>
              </a:xfrm>
              <a:custGeom>
                <a:avLst/>
                <a:gdLst/>
                <a:ahLst/>
                <a:rect l="l" t="t" r="r" b="b"/>
                <a:pathLst>
                  <a:path w="3352800" h="3015488">
                    <a:moveTo>
                      <a:pt x="427990" y="0"/>
                    </a:moveTo>
                    <a:lnTo>
                      <a:pt x="0" y="2671826"/>
                    </a:lnTo>
                    <a:lnTo>
                      <a:pt x="3009138" y="3015488"/>
                    </a:lnTo>
                    <a:lnTo>
                      <a:pt x="3352800" y="32385"/>
                    </a:lnTo>
                    <a:lnTo>
                      <a:pt x="427990" y="0"/>
                    </a:lnTo>
                  </a:path>
                </a:pathLst>
              </a:custGeom>
              <a:solidFill>
                <a:srgbClr val="bc99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任意多边形: 形状 58"/>
              <p:cNvSpPr/>
              <p:nvPr/>
            </p:nvSpPr>
            <p:spPr>
              <a:xfrm>
                <a:off x="6794280" y="2121120"/>
                <a:ext cx="1613520" cy="1958400"/>
              </a:xfrm>
              <a:custGeom>
                <a:avLst/>
                <a:gdLst/>
                <a:ahLst/>
                <a:rect l="l" t="t" r="r" b="b"/>
                <a:pathLst>
                  <a:path w="3035046" h="2762758">
                    <a:moveTo>
                      <a:pt x="402082" y="0"/>
                    </a:moveTo>
                    <a:lnTo>
                      <a:pt x="0" y="2464435"/>
                    </a:lnTo>
                    <a:lnTo>
                      <a:pt x="2717292" y="2762758"/>
                    </a:lnTo>
                    <a:lnTo>
                      <a:pt x="3035046" y="42164"/>
                    </a:lnTo>
                    <a:lnTo>
                      <a:pt x="402082" y="0"/>
                    </a:lnTo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任意多边形: 形状 59"/>
              <p:cNvSpPr/>
              <p:nvPr/>
            </p:nvSpPr>
            <p:spPr>
              <a:xfrm>
                <a:off x="7462080" y="2038320"/>
                <a:ext cx="452880" cy="105480"/>
              </a:xfrm>
              <a:custGeom>
                <a:avLst/>
                <a:gdLst/>
                <a:ahLst/>
                <a:rect l="l" t="t" r="r" b="b"/>
                <a:pathLst>
                  <a:path w="851916" h="149225">
                    <a:moveTo>
                      <a:pt x="0" y="0"/>
                    </a:moveTo>
                    <a:lnTo>
                      <a:pt x="0" y="130429"/>
                    </a:lnTo>
                    <a:lnTo>
                      <a:pt x="851916" y="149225"/>
                    </a:lnTo>
                    <a:lnTo>
                      <a:pt x="851916" y="260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任意多边形: 形状 60"/>
              <p:cNvSpPr/>
              <p:nvPr/>
            </p:nvSpPr>
            <p:spPr>
              <a:xfrm>
                <a:off x="7093080" y="3831120"/>
                <a:ext cx="721800" cy="340200"/>
              </a:xfrm>
              <a:custGeom>
                <a:avLst/>
                <a:gdLst/>
                <a:ahLst/>
                <a:rect l="l" t="t" r="r" b="b"/>
                <a:pathLst>
                  <a:path w="1357630" h="479933">
                    <a:moveTo>
                      <a:pt x="25908" y="0"/>
                    </a:moveTo>
                    <a:lnTo>
                      <a:pt x="0" y="324231"/>
                    </a:lnTo>
                    <a:lnTo>
                      <a:pt x="1318641" y="479933"/>
                    </a:lnTo>
                    <a:lnTo>
                      <a:pt x="1357630" y="160020"/>
                    </a:lnTo>
                    <a:lnTo>
                      <a:pt x="25908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任意多边形: 形状 61"/>
              <p:cNvSpPr/>
              <p:nvPr/>
            </p:nvSpPr>
            <p:spPr>
              <a:xfrm>
                <a:off x="7778160" y="3943080"/>
                <a:ext cx="87120" cy="225000"/>
              </a:xfrm>
              <a:custGeom>
                <a:avLst/>
                <a:gdLst/>
                <a:ahLst/>
                <a:rect l="l" t="t" r="r" b="b"/>
                <a:pathLst>
                  <a:path w="164339" h="317755">
                    <a:moveTo>
                      <a:pt x="164338" y="15113"/>
                    </a:moveTo>
                    <a:lnTo>
                      <a:pt x="67057" y="0"/>
                    </a:lnTo>
                    <a:lnTo>
                      <a:pt x="0" y="317754"/>
                    </a:lnTo>
                    <a:cubicBezTo>
                      <a:pt x="59309" y="300736"/>
                      <a:pt x="103759" y="288163"/>
                      <a:pt x="121032" y="283210"/>
                    </a:cubicBezTo>
                    <a:close/>
                  </a:path>
                </a:pathLst>
              </a:custGeom>
              <a:solidFill>
                <a:srgbClr val="ae7b4c"/>
              </a:solidFill>
              <a:ln w="1260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任意多边形: 形状 62"/>
              <p:cNvSpPr/>
              <p:nvPr/>
            </p:nvSpPr>
            <p:spPr>
              <a:xfrm>
                <a:off x="7263360" y="2787840"/>
                <a:ext cx="682560" cy="717120"/>
              </a:xfrm>
              <a:custGeom>
                <a:avLst/>
                <a:gdLst/>
                <a:ahLst/>
                <a:rect l="l" t="t" r="r" b="b"/>
                <a:pathLst>
                  <a:path w="1283970" h="1011682">
                    <a:moveTo>
                      <a:pt x="1225677" y="1011682"/>
                    </a:moveTo>
                    <a:lnTo>
                      <a:pt x="1283970" y="84328"/>
                    </a:lnTo>
                    <a:lnTo>
                      <a:pt x="77851" y="0"/>
                    </a:lnTo>
                    <a:lnTo>
                      <a:pt x="0" y="880618"/>
                    </a:lnTo>
                    <a:lnTo>
                      <a:pt x="1225677" y="1011682"/>
                    </a:lnTo>
                  </a:path>
                </a:pathLst>
              </a:custGeom>
              <a:solidFill>
                <a:srgbClr val="e76f0b"/>
              </a:solidFill>
              <a:ln w="6480">
                <a:solidFill>
                  <a:srgbClr val="fac5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任意多边形: 形状 63"/>
              <p:cNvSpPr/>
              <p:nvPr/>
            </p:nvSpPr>
            <p:spPr>
              <a:xfrm>
                <a:off x="7216560" y="2451960"/>
                <a:ext cx="756720" cy="395280"/>
              </a:xfrm>
              <a:custGeom>
                <a:avLst/>
                <a:gdLst/>
                <a:ahLst/>
                <a:rect l="l" t="t" r="r" b="b"/>
                <a:pathLst>
                  <a:path w="1423543" h="557784">
                    <a:moveTo>
                      <a:pt x="729615" y="0"/>
                    </a:moveTo>
                    <a:lnTo>
                      <a:pt x="0" y="463677"/>
                    </a:lnTo>
                    <a:lnTo>
                      <a:pt x="1423543" y="557784"/>
                    </a:lnTo>
                    <a:lnTo>
                      <a:pt x="729615" y="0"/>
                    </a:lnTo>
                  </a:path>
                </a:pathLst>
              </a:custGeom>
              <a:solidFill>
                <a:srgbClr val="a842d9"/>
              </a:solidFill>
              <a:ln w="6480">
                <a:solidFill>
                  <a:srgbClr val="cb8e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任意多边形: 形状 64"/>
              <p:cNvSpPr/>
              <p:nvPr/>
            </p:nvSpPr>
            <p:spPr>
              <a:xfrm>
                <a:off x="7390440" y="2824920"/>
                <a:ext cx="246960" cy="293040"/>
              </a:xfrm>
              <a:custGeom>
                <a:avLst/>
                <a:gdLst/>
                <a:ahLst/>
                <a:rect l="l" t="t" r="r" b="b"/>
                <a:pathLst>
                  <a:path w="465075" h="413640">
                    <a:moveTo>
                      <a:pt x="26289" y="229616"/>
                    </a:moveTo>
                    <a:cubicBezTo>
                      <a:pt x="16637" y="127635"/>
                      <a:pt x="0" y="21082"/>
                      <a:pt x="162433" y="35052"/>
                    </a:cubicBezTo>
                    <a:cubicBezTo>
                      <a:pt x="232410" y="2159"/>
                      <a:pt x="298323" y="0"/>
                      <a:pt x="356997" y="51308"/>
                    </a:cubicBezTo>
                    <a:cubicBezTo>
                      <a:pt x="416433" y="63246"/>
                      <a:pt x="443484" y="90170"/>
                      <a:pt x="438023" y="132334"/>
                    </a:cubicBezTo>
                    <a:cubicBezTo>
                      <a:pt x="462788" y="166116"/>
                      <a:pt x="465074" y="198628"/>
                      <a:pt x="438023" y="229616"/>
                    </a:cubicBezTo>
                    <a:cubicBezTo>
                      <a:pt x="370967" y="223774"/>
                      <a:pt x="324612" y="257302"/>
                      <a:pt x="292100" y="317119"/>
                    </a:cubicBezTo>
                    <a:cubicBezTo>
                      <a:pt x="274447" y="386334"/>
                      <a:pt x="234442" y="413639"/>
                      <a:pt x="172085" y="399161"/>
                    </a:cubicBezTo>
                    <a:cubicBezTo>
                      <a:pt x="82423" y="353568"/>
                      <a:pt x="12827" y="302514"/>
                      <a:pt x="26289" y="229616"/>
                    </a:cubicBezTo>
                    <a:close/>
                  </a:path>
                </a:pathLst>
              </a:custGeom>
              <a:solidFill>
                <a:srgbClr val="f8a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组合 14"/>
            <p:cNvGrpSpPr/>
            <p:nvPr/>
          </p:nvGrpSpPr>
          <p:grpSpPr>
            <a:xfrm>
              <a:off x="5151600" y="1931400"/>
              <a:ext cx="2343240" cy="3803040"/>
              <a:chOff x="5151600" y="1931400"/>
              <a:chExt cx="2343240" cy="3803040"/>
            </a:xfrm>
          </p:grpSpPr>
          <p:grpSp>
            <p:nvGrpSpPr>
              <p:cNvPr id="557" name="组合 15"/>
              <p:cNvGrpSpPr/>
              <p:nvPr/>
            </p:nvGrpSpPr>
            <p:grpSpPr>
              <a:xfrm>
                <a:off x="5151600" y="1931400"/>
                <a:ext cx="2343240" cy="3803040"/>
                <a:chOff x="5151600" y="1931400"/>
                <a:chExt cx="2343240" cy="3803040"/>
              </a:xfrm>
            </p:grpSpPr>
            <p:sp>
              <p:nvSpPr>
                <p:cNvPr id="558" name="任意多边形: 形状 23"/>
                <p:cNvSpPr/>
                <p:nvPr/>
              </p:nvSpPr>
              <p:spPr>
                <a:xfrm>
                  <a:off x="6028560" y="4867200"/>
                  <a:ext cx="162720" cy="527400"/>
                </a:xfrm>
                <a:custGeom>
                  <a:avLst/>
                  <a:gdLst/>
                  <a:ahLst/>
                  <a:rect l="l" t="t" r="r" b="b"/>
                  <a:pathLst>
                    <a:path w="331471" h="804800">
                      <a:moveTo>
                        <a:pt x="46101" y="791210"/>
                      </a:moveTo>
                      <a:cubicBezTo>
                        <a:pt x="149987" y="804799"/>
                        <a:pt x="247650" y="779526"/>
                        <a:pt x="331470" y="729615"/>
                      </a:cubicBezTo>
                      <a:cubicBezTo>
                        <a:pt x="268224" y="537972"/>
                        <a:pt x="263144" y="281178"/>
                        <a:pt x="279527" y="0"/>
                      </a:cubicBezTo>
                      <a:lnTo>
                        <a:pt x="13716" y="0"/>
                      </a:lnTo>
                      <a:cubicBezTo>
                        <a:pt x="4318" y="325247"/>
                        <a:pt x="0" y="653034"/>
                        <a:pt x="46101" y="79121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任意多边形: 形状 24"/>
                <p:cNvSpPr/>
                <p:nvPr/>
              </p:nvSpPr>
              <p:spPr>
                <a:xfrm>
                  <a:off x="5348160" y="2207520"/>
                  <a:ext cx="1347840" cy="1426680"/>
                </a:xfrm>
                <a:custGeom>
                  <a:avLst/>
                  <a:gdLst/>
                  <a:ahLst/>
                  <a:rect l="l" t="t" r="r" b="b"/>
                  <a:pathLst>
                    <a:path w="2741677" h="2176146">
                      <a:moveTo>
                        <a:pt x="2379980" y="632333"/>
                      </a:moveTo>
                      <a:cubicBezTo>
                        <a:pt x="2741676" y="1211580"/>
                        <a:pt x="2441194" y="1634998"/>
                        <a:pt x="1689354" y="1951990"/>
                      </a:cubicBezTo>
                      <a:cubicBezTo>
                        <a:pt x="1648587" y="1981962"/>
                        <a:pt x="1633728" y="2048129"/>
                        <a:pt x="1627759" y="2127123"/>
                      </a:cubicBezTo>
                      <a:cubicBezTo>
                        <a:pt x="1548892" y="2176145"/>
                        <a:pt x="1481836" y="2170049"/>
                        <a:pt x="1430020" y="2091436"/>
                      </a:cubicBezTo>
                      <a:cubicBezTo>
                        <a:pt x="1436751" y="2009394"/>
                        <a:pt x="1390904" y="1966468"/>
                        <a:pt x="1319784" y="1942338"/>
                      </a:cubicBezTo>
                      <a:cubicBezTo>
                        <a:pt x="940435" y="1919605"/>
                        <a:pt x="578739" y="1948180"/>
                        <a:pt x="466979" y="1760728"/>
                      </a:cubicBezTo>
                      <a:lnTo>
                        <a:pt x="0" y="1096010"/>
                      </a:lnTo>
                      <a:lnTo>
                        <a:pt x="350139" y="463677"/>
                      </a:lnTo>
                      <a:lnTo>
                        <a:pt x="1089406" y="285369"/>
                      </a:lnTo>
                      <a:lnTo>
                        <a:pt x="1549908" y="0"/>
                      </a:lnTo>
                      <a:lnTo>
                        <a:pt x="1890395" y="29210"/>
                      </a:ln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任意多边形: 形状 25"/>
                <p:cNvSpPr/>
                <p:nvPr/>
              </p:nvSpPr>
              <p:spPr>
                <a:xfrm>
                  <a:off x="5697000" y="4937400"/>
                  <a:ext cx="183240" cy="633960"/>
                </a:xfrm>
                <a:custGeom>
                  <a:avLst/>
                  <a:gdLst/>
                  <a:ahLst/>
                  <a:rect l="l" t="t" r="r" b="b"/>
                  <a:pathLst>
                    <a:path w="373000" h="967106">
                      <a:moveTo>
                        <a:pt x="97409" y="0"/>
                      </a:moveTo>
                      <a:cubicBezTo>
                        <a:pt x="53340" y="333121"/>
                        <a:pt x="0" y="647954"/>
                        <a:pt x="19558" y="882015"/>
                      </a:cubicBezTo>
                      <a:cubicBezTo>
                        <a:pt x="86995" y="967105"/>
                        <a:pt x="193802" y="919480"/>
                        <a:pt x="288671" y="865759"/>
                      </a:cubicBezTo>
                      <a:cubicBezTo>
                        <a:pt x="287147" y="524002"/>
                        <a:pt x="302006" y="211582"/>
                        <a:pt x="372999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任意多边形: 形状 26"/>
                <p:cNvSpPr/>
                <p:nvPr/>
              </p:nvSpPr>
              <p:spPr>
                <a:xfrm>
                  <a:off x="5678280" y="3740400"/>
                  <a:ext cx="165600" cy="110880"/>
                </a:xfrm>
                <a:custGeom>
                  <a:avLst/>
                  <a:gdLst/>
                  <a:ahLst/>
                  <a:rect l="l" t="t" r="r" b="b"/>
                  <a:pathLst>
                    <a:path w="337186" h="169165">
                      <a:moveTo>
                        <a:pt x="142621" y="0"/>
                      </a:moveTo>
                      <a:lnTo>
                        <a:pt x="0" y="169164"/>
                      </a:lnTo>
                      <a:cubicBezTo>
                        <a:pt x="100457" y="136779"/>
                        <a:pt x="337185" y="113411"/>
                        <a:pt x="337185" y="113411"/>
                      </a:cubicBezTo>
                      <a:cubicBezTo>
                        <a:pt x="337185" y="113411"/>
                        <a:pt x="260731" y="19812"/>
                        <a:pt x="142621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任意多边形: 形状 27"/>
                <p:cNvSpPr/>
                <p:nvPr/>
              </p:nvSpPr>
              <p:spPr>
                <a:xfrm>
                  <a:off x="6404040" y="3046320"/>
                  <a:ext cx="587520" cy="640440"/>
                </a:xfrm>
                <a:custGeom>
                  <a:avLst/>
                  <a:gdLst/>
                  <a:ahLst/>
                  <a:rect l="l" t="t" r="r" b="b"/>
                  <a:pathLst>
                    <a:path w="1195197" h="977266">
                      <a:moveTo>
                        <a:pt x="64516" y="977265"/>
                      </a:moveTo>
                      <a:cubicBezTo>
                        <a:pt x="306324" y="854456"/>
                        <a:pt x="553085" y="663702"/>
                        <a:pt x="754126" y="429387"/>
                      </a:cubicBezTo>
                      <a:cubicBezTo>
                        <a:pt x="834136" y="402463"/>
                        <a:pt x="874522" y="361950"/>
                        <a:pt x="870839" y="306197"/>
                      </a:cubicBezTo>
                      <a:cubicBezTo>
                        <a:pt x="981075" y="279146"/>
                        <a:pt x="1060577" y="166751"/>
                        <a:pt x="1039495" y="150495"/>
                      </a:cubicBezTo>
                      <a:cubicBezTo>
                        <a:pt x="1018414" y="134238"/>
                        <a:pt x="919988" y="183769"/>
                        <a:pt x="841756" y="234823"/>
                      </a:cubicBezTo>
                      <a:cubicBezTo>
                        <a:pt x="892556" y="178563"/>
                        <a:pt x="927734" y="114173"/>
                        <a:pt x="1123823" y="124587"/>
                      </a:cubicBezTo>
                      <a:lnTo>
                        <a:pt x="1195196" y="111633"/>
                      </a:lnTo>
                      <a:cubicBezTo>
                        <a:pt x="1170939" y="48387"/>
                        <a:pt x="1066545" y="0"/>
                        <a:pt x="948817" y="56515"/>
                      </a:cubicBezTo>
                      <a:cubicBezTo>
                        <a:pt x="861313" y="62992"/>
                        <a:pt x="809751" y="116459"/>
                        <a:pt x="760730" y="173228"/>
                      </a:cubicBezTo>
                      <a:cubicBezTo>
                        <a:pt x="573913" y="450469"/>
                        <a:pt x="323088" y="650875"/>
                        <a:pt x="0" y="764413"/>
                      </a:cubicBezTo>
                      <a:cubicBezTo>
                        <a:pt x="21717" y="837438"/>
                        <a:pt x="24130" y="915924"/>
                        <a:pt x="64516" y="977265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任意多边形: 形状 28"/>
                <p:cNvSpPr/>
                <p:nvPr/>
              </p:nvSpPr>
              <p:spPr>
                <a:xfrm>
                  <a:off x="5669640" y="3520800"/>
                  <a:ext cx="788400" cy="1060200"/>
                </a:xfrm>
                <a:custGeom>
                  <a:avLst/>
                  <a:gdLst/>
                  <a:ahLst/>
                  <a:rect l="l" t="t" r="r" b="b"/>
                  <a:pathLst>
                    <a:path w="1604011" h="1616965">
                      <a:moveTo>
                        <a:pt x="99441" y="337185"/>
                      </a:moveTo>
                      <a:cubicBezTo>
                        <a:pt x="210439" y="357759"/>
                        <a:pt x="315341" y="407162"/>
                        <a:pt x="410718" y="501523"/>
                      </a:cubicBezTo>
                      <a:lnTo>
                        <a:pt x="0" y="1292733"/>
                      </a:lnTo>
                      <a:cubicBezTo>
                        <a:pt x="271272" y="1474089"/>
                        <a:pt x="661035" y="1560957"/>
                        <a:pt x="1089533" y="1616964"/>
                      </a:cubicBezTo>
                      <a:cubicBezTo>
                        <a:pt x="1203452" y="1285621"/>
                        <a:pt x="1279779" y="930402"/>
                        <a:pt x="1301369" y="540385"/>
                      </a:cubicBezTo>
                      <a:cubicBezTo>
                        <a:pt x="1301242" y="423799"/>
                        <a:pt x="1425067" y="367157"/>
                        <a:pt x="1604010" y="337185"/>
                      </a:cubicBezTo>
                      <a:lnTo>
                        <a:pt x="1478661" y="0"/>
                      </a:lnTo>
                      <a:cubicBezTo>
                        <a:pt x="1231264" y="74676"/>
                        <a:pt x="1042289" y="85979"/>
                        <a:pt x="987298" y="38862"/>
                      </a:cubicBezTo>
                      <a:cubicBezTo>
                        <a:pt x="967359" y="224790"/>
                        <a:pt x="772794" y="140462"/>
                        <a:pt x="765048" y="26035"/>
                      </a:cubicBezTo>
                      <a:cubicBezTo>
                        <a:pt x="445770" y="36068"/>
                        <a:pt x="249936" y="183134"/>
                        <a:pt x="99441" y="337185"/>
                      </a:cubicBezTo>
                      <a:close/>
                    </a:path>
                  </a:pathLst>
                </a:custGeom>
                <a:solidFill>
                  <a:srgbClr val="a49dc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任意多边形: 形状 29"/>
                <p:cNvSpPr/>
                <p:nvPr/>
              </p:nvSpPr>
              <p:spPr>
                <a:xfrm>
                  <a:off x="5679720" y="4401360"/>
                  <a:ext cx="578520" cy="569160"/>
                </a:xfrm>
                <a:custGeom>
                  <a:avLst/>
                  <a:gdLst/>
                  <a:ahLst/>
                  <a:rect l="l" t="t" r="r" b="b"/>
                  <a:pathLst>
                    <a:path w="1176783" h="868046">
                      <a:moveTo>
                        <a:pt x="64897" y="0"/>
                      </a:moveTo>
                      <a:cubicBezTo>
                        <a:pt x="17272" y="261620"/>
                        <a:pt x="0" y="523240"/>
                        <a:pt x="16256" y="784733"/>
                      </a:cubicBezTo>
                      <a:cubicBezTo>
                        <a:pt x="167259" y="836549"/>
                        <a:pt x="341503" y="868045"/>
                        <a:pt x="625856" y="804164"/>
                      </a:cubicBezTo>
                      <a:cubicBezTo>
                        <a:pt x="789432" y="852551"/>
                        <a:pt x="951484" y="850900"/>
                        <a:pt x="1112266" y="804164"/>
                      </a:cubicBezTo>
                      <a:cubicBezTo>
                        <a:pt x="1167384" y="594233"/>
                        <a:pt x="1176782" y="337566"/>
                        <a:pt x="1160907" y="55118"/>
                      </a:cubicBezTo>
                      <a:cubicBezTo>
                        <a:pt x="821817" y="181610"/>
                        <a:pt x="455803" y="183388"/>
                        <a:pt x="64897" y="0"/>
                      </a:cubicBezTo>
                      <a:close/>
                    </a:path>
                  </a:pathLst>
                </a:custGeom>
                <a:solidFill>
                  <a:srgbClr val="d57f3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任意多边形: 形状 30"/>
                <p:cNvSpPr/>
                <p:nvPr/>
              </p:nvSpPr>
              <p:spPr>
                <a:xfrm>
                  <a:off x="5799240" y="3547440"/>
                  <a:ext cx="585720" cy="1506600"/>
                </a:xfrm>
                <a:custGeom>
                  <a:avLst/>
                  <a:gdLst/>
                  <a:ahLst/>
                  <a:rect l="l" t="t" r="r" b="b"/>
                  <a:pathLst>
                    <a:path w="1191516" h="2297812">
                      <a:moveTo>
                        <a:pt x="203328" y="32385"/>
                      </a:moveTo>
                      <a:lnTo>
                        <a:pt x="348870" y="0"/>
                      </a:lnTo>
                      <a:cubicBezTo>
                        <a:pt x="460376" y="126746"/>
                        <a:pt x="518796" y="242951"/>
                        <a:pt x="521082" y="347980"/>
                      </a:cubicBezTo>
                      <a:cubicBezTo>
                        <a:pt x="636906" y="317500"/>
                        <a:pt x="752984" y="310515"/>
                        <a:pt x="869062" y="326390"/>
                      </a:cubicBezTo>
                      <a:cubicBezTo>
                        <a:pt x="863347" y="201549"/>
                        <a:pt x="835661" y="95631"/>
                        <a:pt x="776098" y="17272"/>
                      </a:cubicBezTo>
                      <a:lnTo>
                        <a:pt x="890652" y="28067"/>
                      </a:lnTo>
                      <a:cubicBezTo>
                        <a:pt x="1166749" y="377952"/>
                        <a:pt x="1191515" y="1202055"/>
                        <a:pt x="1118743" y="2210308"/>
                      </a:cubicBezTo>
                      <a:cubicBezTo>
                        <a:pt x="878840" y="2297811"/>
                        <a:pt x="409194" y="2271649"/>
                        <a:pt x="0" y="2236216"/>
                      </a:cubicBezTo>
                      <a:cubicBezTo>
                        <a:pt x="201550" y="1260221"/>
                        <a:pt x="441453" y="379857"/>
                        <a:pt x="203328" y="32385"/>
                      </a:cubicBezTo>
                      <a:close/>
                    </a:path>
                  </a:pathLst>
                </a:custGeom>
                <a:solidFill>
                  <a:srgbClr val="e7e875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任意多边形: 形状 31"/>
                <p:cNvSpPr/>
                <p:nvPr/>
              </p:nvSpPr>
              <p:spPr>
                <a:xfrm>
                  <a:off x="5655240" y="5505120"/>
                  <a:ext cx="397800" cy="229320"/>
                </a:xfrm>
                <a:custGeom>
                  <a:avLst/>
                  <a:gdLst/>
                  <a:ahLst/>
                  <a:rect l="l" t="t" r="r" b="b"/>
                  <a:pathLst>
                    <a:path w="809753" h="350267">
                      <a:moveTo>
                        <a:pt x="98425" y="9779"/>
                      </a:moveTo>
                      <a:cubicBezTo>
                        <a:pt x="0" y="218186"/>
                        <a:pt x="279527" y="350266"/>
                        <a:pt x="724281" y="278892"/>
                      </a:cubicBezTo>
                      <a:cubicBezTo>
                        <a:pt x="809752" y="243205"/>
                        <a:pt x="809752" y="132969"/>
                        <a:pt x="743712" y="90805"/>
                      </a:cubicBezTo>
                      <a:cubicBezTo>
                        <a:pt x="664083" y="20066"/>
                        <a:pt x="520827" y="8382"/>
                        <a:pt x="374015" y="0"/>
                      </a:cubicBezTo>
                      <a:cubicBezTo>
                        <a:pt x="291211" y="60579"/>
                        <a:pt x="197231" y="50419"/>
                        <a:pt x="98425" y="9779"/>
                      </a:cubicBezTo>
                      <a:close/>
                    </a:path>
                  </a:pathLst>
                </a:custGeom>
                <a:solidFill>
                  <a:srgbClr val="89b8d7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任意多边形: 形状 32"/>
                <p:cNvSpPr/>
                <p:nvPr/>
              </p:nvSpPr>
              <p:spPr>
                <a:xfrm>
                  <a:off x="6047280" y="5318280"/>
                  <a:ext cx="336960" cy="176040"/>
                </a:xfrm>
                <a:custGeom>
                  <a:avLst/>
                  <a:gdLst/>
                  <a:ahLst/>
                  <a:rect l="l" t="t" r="r" b="b"/>
                  <a:pathLst>
                    <a:path w="686055" h="268606">
                      <a:moveTo>
                        <a:pt x="14097" y="103251"/>
                      </a:moveTo>
                      <a:cubicBezTo>
                        <a:pt x="0" y="175768"/>
                        <a:pt x="55626" y="232791"/>
                        <a:pt x="205359" y="268605"/>
                      </a:cubicBezTo>
                      <a:cubicBezTo>
                        <a:pt x="366649" y="265176"/>
                        <a:pt x="520319" y="256413"/>
                        <a:pt x="626872" y="213487"/>
                      </a:cubicBezTo>
                      <a:cubicBezTo>
                        <a:pt x="673354" y="197231"/>
                        <a:pt x="686054" y="141224"/>
                        <a:pt x="648970" y="103251"/>
                      </a:cubicBezTo>
                      <a:cubicBezTo>
                        <a:pt x="569849" y="0"/>
                        <a:pt x="431673" y="2159"/>
                        <a:pt x="297815" y="10795"/>
                      </a:cubicBezTo>
                      <a:cubicBezTo>
                        <a:pt x="260477" y="116586"/>
                        <a:pt x="144526" y="102616"/>
                        <a:pt x="14097" y="103251"/>
                      </a:cubicBezTo>
                      <a:close/>
                    </a:path>
                  </a:pathLst>
                </a:custGeom>
                <a:solidFill>
                  <a:srgbClr val="87b2c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任意多边形: 形状 33"/>
                <p:cNvSpPr/>
                <p:nvPr/>
              </p:nvSpPr>
              <p:spPr>
                <a:xfrm>
                  <a:off x="5315400" y="3680640"/>
                  <a:ext cx="995400" cy="833400"/>
                </a:xfrm>
                <a:custGeom>
                  <a:avLst/>
                  <a:gdLst/>
                  <a:ahLst/>
                  <a:rect l="l" t="t" r="r" b="b"/>
                  <a:pathLst>
                    <a:path w="2025016" h="1271398">
                      <a:moveTo>
                        <a:pt x="1597787" y="341376"/>
                      </a:moveTo>
                      <a:cubicBezTo>
                        <a:pt x="1130046" y="0"/>
                        <a:pt x="0" y="384048"/>
                        <a:pt x="267589" y="768858"/>
                      </a:cubicBezTo>
                      <a:cubicBezTo>
                        <a:pt x="669671" y="1271397"/>
                        <a:pt x="2025015" y="1255268"/>
                        <a:pt x="1908810" y="752602"/>
                      </a:cubicBezTo>
                      <a:cubicBezTo>
                        <a:pt x="1853565" y="648081"/>
                        <a:pt x="1751203" y="600329"/>
                        <a:pt x="1620012" y="587248"/>
                      </a:cubicBezTo>
                      <a:cubicBezTo>
                        <a:pt x="1567180" y="568452"/>
                        <a:pt x="1567815" y="484378"/>
                        <a:pt x="1584071" y="477012"/>
                      </a:cubicBezTo>
                      <a:cubicBezTo>
                        <a:pt x="1600327" y="469645"/>
                        <a:pt x="1621282" y="389509"/>
                        <a:pt x="1597787" y="341376"/>
                      </a:cubicBezTo>
                      <a:close/>
                    </a:path>
                  </a:pathLst>
                </a:custGeom>
                <a:solidFill>
                  <a:srgbClr val="dac4a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任意多边形: 形状 34"/>
                <p:cNvSpPr/>
                <p:nvPr/>
              </p:nvSpPr>
              <p:spPr>
                <a:xfrm>
                  <a:off x="6611040" y="3066840"/>
                  <a:ext cx="622800" cy="144000"/>
                </a:xfrm>
                <a:custGeom>
                  <a:avLst/>
                  <a:gdLst/>
                  <a:ahLst/>
                  <a:rect l="l" t="t" r="r" b="b"/>
                  <a:pathLst>
                    <a:path w="1267080" h="219838">
                      <a:moveTo>
                        <a:pt x="93218" y="203327"/>
                      </a:moveTo>
                      <a:cubicBezTo>
                        <a:pt x="0" y="189992"/>
                        <a:pt x="371602" y="123571"/>
                        <a:pt x="1244346" y="0"/>
                      </a:cubicBezTo>
                      <a:lnTo>
                        <a:pt x="1267079" y="34671"/>
                      </a:lnTo>
                      <a:cubicBezTo>
                        <a:pt x="788162" y="161036"/>
                        <a:pt x="393573" y="219837"/>
                        <a:pt x="93218" y="203327"/>
                      </a:cubicBezTo>
                      <a:close/>
                    </a:path>
                  </a:pathLst>
                </a:custGeom>
                <a:solidFill>
                  <a:srgbClr val="b3433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任意多边形: 形状 35"/>
                <p:cNvSpPr/>
                <p:nvPr/>
              </p:nvSpPr>
              <p:spPr>
                <a:xfrm>
                  <a:off x="7218360" y="2991240"/>
                  <a:ext cx="195480" cy="144000"/>
                </a:xfrm>
                <a:custGeom>
                  <a:avLst/>
                  <a:gdLst/>
                  <a:ahLst/>
                  <a:rect l="l" t="t" r="r" b="b"/>
                  <a:pathLst>
                    <a:path w="398273" h="219965">
                      <a:moveTo>
                        <a:pt x="5842" y="98425"/>
                      </a:moveTo>
                      <a:cubicBezTo>
                        <a:pt x="0" y="27559"/>
                        <a:pt x="158750" y="9906"/>
                        <a:pt x="362585" y="0"/>
                      </a:cubicBezTo>
                      <a:lnTo>
                        <a:pt x="398272" y="115570"/>
                      </a:lnTo>
                      <a:cubicBezTo>
                        <a:pt x="273685" y="167513"/>
                        <a:pt x="149098" y="219964"/>
                        <a:pt x="31877" y="150241"/>
                      </a:cubicBezTo>
                      <a:cubicBezTo>
                        <a:pt x="17526" y="134620"/>
                        <a:pt x="10160" y="116967"/>
                        <a:pt x="5842" y="98425"/>
                      </a:cubicBezTo>
                      <a:close/>
                    </a:path>
                  </a:pathLst>
                </a:custGeom>
                <a:solidFill>
                  <a:srgbClr val="78201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任意多边形: 形状 36"/>
                <p:cNvSpPr/>
                <p:nvPr/>
              </p:nvSpPr>
              <p:spPr>
                <a:xfrm>
                  <a:off x="7332480" y="2902680"/>
                  <a:ext cx="162360" cy="193320"/>
                </a:xfrm>
                <a:custGeom>
                  <a:avLst/>
                  <a:gdLst/>
                  <a:ahLst/>
                  <a:rect l="l" t="t" r="r" b="b"/>
                  <a:pathLst>
                    <a:path w="330709" h="295022">
                      <a:moveTo>
                        <a:pt x="330708" y="0"/>
                      </a:moveTo>
                      <a:cubicBezTo>
                        <a:pt x="301498" y="250571"/>
                        <a:pt x="155575" y="295021"/>
                        <a:pt x="86487" y="182626"/>
                      </a:cubicBezTo>
                      <a:cubicBezTo>
                        <a:pt x="0" y="46482"/>
                        <a:pt x="254000" y="120523"/>
                        <a:pt x="330708" y="0"/>
                      </a:cubicBezTo>
                      <a:close/>
                    </a:path>
                  </a:pathLst>
                </a:custGeom>
                <a:solidFill>
                  <a:srgbClr val="da6634"/>
                </a:solidFill>
                <a:ln w="12600">
                  <a:solidFill>
                    <a:srgbClr val="fac5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任意多边形: 形状 37"/>
                <p:cNvSpPr/>
                <p:nvPr/>
              </p:nvSpPr>
              <p:spPr>
                <a:xfrm>
                  <a:off x="5151600" y="1931400"/>
                  <a:ext cx="1384200" cy="1485720"/>
                </a:xfrm>
                <a:custGeom>
                  <a:avLst/>
                  <a:gdLst/>
                  <a:ahLst/>
                  <a:rect l="l" t="t" r="r" b="b"/>
                  <a:pathLst>
                    <a:path w="2815591" h="2266189">
                      <a:moveTo>
                        <a:pt x="782574" y="437388"/>
                      </a:moveTo>
                      <a:cubicBezTo>
                        <a:pt x="0" y="1125093"/>
                        <a:pt x="240792" y="1710690"/>
                        <a:pt x="782574" y="2266188"/>
                      </a:cubicBezTo>
                      <a:cubicBezTo>
                        <a:pt x="839597" y="2193544"/>
                        <a:pt x="889000" y="2117979"/>
                        <a:pt x="889635" y="2022983"/>
                      </a:cubicBezTo>
                      <a:cubicBezTo>
                        <a:pt x="558927" y="1977644"/>
                        <a:pt x="555625" y="1607947"/>
                        <a:pt x="986917" y="1731137"/>
                      </a:cubicBezTo>
                      <a:cubicBezTo>
                        <a:pt x="1129284" y="1503680"/>
                        <a:pt x="1164844" y="1229487"/>
                        <a:pt x="1084199" y="904240"/>
                      </a:cubicBezTo>
                      <a:cubicBezTo>
                        <a:pt x="1323594" y="1020064"/>
                        <a:pt x="1466596" y="1219835"/>
                        <a:pt x="1551178" y="1439291"/>
                      </a:cubicBezTo>
                      <a:lnTo>
                        <a:pt x="1896491" y="1327404"/>
                      </a:lnTo>
                      <a:cubicBezTo>
                        <a:pt x="1923161" y="1138682"/>
                        <a:pt x="1827530" y="922020"/>
                        <a:pt x="1706753" y="690245"/>
                      </a:cubicBezTo>
                      <a:cubicBezTo>
                        <a:pt x="1869440" y="902589"/>
                        <a:pt x="1977136" y="1106678"/>
                        <a:pt x="1969389" y="1293368"/>
                      </a:cubicBezTo>
                      <a:lnTo>
                        <a:pt x="2212594" y="1205865"/>
                      </a:lnTo>
                      <a:cubicBezTo>
                        <a:pt x="2230628" y="1053719"/>
                        <a:pt x="2138807" y="846328"/>
                        <a:pt x="2001774" y="602742"/>
                      </a:cubicBezTo>
                      <a:cubicBezTo>
                        <a:pt x="2168270" y="752856"/>
                        <a:pt x="2279903" y="945769"/>
                        <a:pt x="2368169" y="1157224"/>
                      </a:cubicBezTo>
                      <a:lnTo>
                        <a:pt x="2504313" y="1118362"/>
                      </a:lnTo>
                      <a:cubicBezTo>
                        <a:pt x="2525268" y="939292"/>
                        <a:pt x="2427351" y="734568"/>
                        <a:pt x="2261108" y="515239"/>
                      </a:cubicBezTo>
                      <a:cubicBezTo>
                        <a:pt x="2465197" y="698119"/>
                        <a:pt x="2614041" y="877570"/>
                        <a:pt x="2659888" y="1050290"/>
                      </a:cubicBezTo>
                      <a:lnTo>
                        <a:pt x="2815590" y="1011428"/>
                      </a:lnTo>
                      <a:cubicBezTo>
                        <a:pt x="2559431" y="456946"/>
                        <a:pt x="2058035" y="0"/>
                        <a:pt x="1152144" y="291592"/>
                      </a:cubicBezTo>
                      <a:cubicBezTo>
                        <a:pt x="1048385" y="301371"/>
                        <a:pt x="989203" y="204978"/>
                        <a:pt x="957580" y="126239"/>
                      </a:cubicBezTo>
                      <a:cubicBezTo>
                        <a:pt x="932942" y="204344"/>
                        <a:pt x="947547" y="279019"/>
                        <a:pt x="1006221" y="350013"/>
                      </a:cubicBezTo>
                      <a:cubicBezTo>
                        <a:pt x="947547" y="280290"/>
                        <a:pt x="860298" y="250699"/>
                        <a:pt x="743585" y="262510"/>
                      </a:cubicBezTo>
                      <a:cubicBezTo>
                        <a:pt x="817880" y="307341"/>
                        <a:pt x="869442" y="352680"/>
                        <a:pt x="889508" y="398654"/>
                      </a:cubicBezTo>
                      <a:cubicBezTo>
                        <a:pt x="786892" y="347854"/>
                        <a:pt x="718820" y="364110"/>
                        <a:pt x="613918" y="427864"/>
                      </a:cubicBezTo>
                      <a:cubicBezTo>
                        <a:pt x="698119" y="412496"/>
                        <a:pt x="758952" y="412623"/>
                        <a:pt x="782574" y="437388"/>
                      </a:cubicBezTo>
                      <a:close/>
                    </a:path>
                  </a:pathLst>
                </a:custGeom>
                <a:solidFill>
                  <a:srgbClr val="d8660a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任意多边形: 形状 38"/>
                <p:cNvSpPr/>
                <p:nvPr/>
              </p:nvSpPr>
              <p:spPr>
                <a:xfrm>
                  <a:off x="5824080" y="3879720"/>
                  <a:ext cx="113040" cy="77400"/>
                </a:xfrm>
                <a:custGeom>
                  <a:avLst/>
                  <a:gdLst/>
                  <a:ahLst/>
                  <a:rect l="l" t="t" r="r" b="b"/>
                  <a:pathLst>
                    <a:path w="230125" h="118365">
                      <a:moveTo>
                        <a:pt x="230124" y="44577"/>
                      </a:moveTo>
                      <a:cubicBezTo>
                        <a:pt x="230124" y="66421"/>
                        <a:pt x="202565" y="118364"/>
                        <a:pt x="115062" y="108585"/>
                      </a:cubicBezTo>
                      <a:cubicBezTo>
                        <a:pt x="15748" y="109982"/>
                        <a:pt x="0" y="68072"/>
                        <a:pt x="0" y="44577"/>
                      </a:cubicBezTo>
                      <a:cubicBezTo>
                        <a:pt x="0" y="21082"/>
                        <a:pt x="51562" y="0"/>
                        <a:pt x="115062" y="0"/>
                      </a:cubicBezTo>
                      <a:cubicBezTo>
                        <a:pt x="178562" y="0"/>
                        <a:pt x="230124" y="22733"/>
                        <a:pt x="230124" y="44577"/>
                      </a:cubicBezTo>
                      <a:close/>
                    </a:path>
                  </a:pathLst>
                </a:custGeom>
                <a:solidFill>
                  <a:srgbClr val="a842d9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任意多边形: 形状 39"/>
                <p:cNvSpPr/>
                <p:nvPr/>
              </p:nvSpPr>
              <p:spPr>
                <a:xfrm>
                  <a:off x="5644440" y="3908160"/>
                  <a:ext cx="103320" cy="64800"/>
                </a:xfrm>
                <a:custGeom>
                  <a:avLst/>
                  <a:gdLst/>
                  <a:ahLst/>
                  <a:rect l="l" t="t" r="r" b="b"/>
                  <a:pathLst>
                    <a:path w="210821" h="98934">
                      <a:moveTo>
                        <a:pt x="210820" y="36449"/>
                      </a:moveTo>
                      <a:cubicBezTo>
                        <a:pt x="210820" y="0"/>
                        <a:pt x="163576" y="0"/>
                        <a:pt x="105410" y="0"/>
                      </a:cubicBezTo>
                      <a:cubicBezTo>
                        <a:pt x="47244" y="0"/>
                        <a:pt x="0" y="45847"/>
                        <a:pt x="0" y="66040"/>
                      </a:cubicBezTo>
                      <a:cubicBezTo>
                        <a:pt x="0" y="98933"/>
                        <a:pt x="47244" y="98933"/>
                        <a:pt x="105410" y="98933"/>
                      </a:cubicBezTo>
                      <a:cubicBezTo>
                        <a:pt x="163576" y="98933"/>
                        <a:pt x="210820" y="72898"/>
                        <a:pt x="210820" y="36449"/>
                      </a:cubicBezTo>
                      <a:close/>
                    </a:path>
                  </a:pathLst>
                </a:custGeom>
                <a:solidFill>
                  <a:srgbClr val="e76f0b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任意多边形: 形状 40"/>
                <p:cNvSpPr/>
                <p:nvPr/>
              </p:nvSpPr>
              <p:spPr>
                <a:xfrm>
                  <a:off x="5513760" y="4030920"/>
                  <a:ext cx="109800" cy="73080"/>
                </a:xfrm>
                <a:custGeom>
                  <a:avLst/>
                  <a:gdLst/>
                  <a:ahLst/>
                  <a:rect l="l" t="t" r="r" b="b"/>
                  <a:pathLst>
                    <a:path w="223775" h="111761">
                      <a:moveTo>
                        <a:pt x="223774" y="66421"/>
                      </a:moveTo>
                      <a:cubicBezTo>
                        <a:pt x="223774" y="111760"/>
                        <a:pt x="168656" y="111760"/>
                        <a:pt x="111887" y="111760"/>
                      </a:cubicBezTo>
                      <a:cubicBezTo>
                        <a:pt x="50165" y="111760"/>
                        <a:pt x="0" y="110109"/>
                        <a:pt x="0" y="66421"/>
                      </a:cubicBezTo>
                      <a:cubicBezTo>
                        <a:pt x="0" y="22733"/>
                        <a:pt x="50038" y="0"/>
                        <a:pt x="111887" y="0"/>
                      </a:cubicBezTo>
                      <a:cubicBezTo>
                        <a:pt x="173736" y="0"/>
                        <a:pt x="223774" y="21082"/>
                        <a:pt x="223774" y="66421"/>
                      </a:cubicBezTo>
                      <a:close/>
                    </a:path>
                  </a:pathLst>
                </a:custGeom>
                <a:solidFill>
                  <a:srgbClr val="60b74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任意多边形: 形状 41"/>
                <p:cNvSpPr/>
                <p:nvPr/>
              </p:nvSpPr>
              <p:spPr>
                <a:xfrm>
                  <a:off x="5568840" y="4150800"/>
                  <a:ext cx="115560" cy="80640"/>
                </a:xfrm>
                <a:custGeom>
                  <a:avLst/>
                  <a:gdLst/>
                  <a:ahLst/>
                  <a:rect l="l" t="t" r="r" b="b"/>
                  <a:pathLst>
                    <a:path w="235713" h="123191">
                      <a:moveTo>
                        <a:pt x="235712" y="55118"/>
                      </a:moveTo>
                      <a:cubicBezTo>
                        <a:pt x="235712" y="103759"/>
                        <a:pt x="183007" y="123190"/>
                        <a:pt x="117856" y="123190"/>
                      </a:cubicBezTo>
                      <a:cubicBezTo>
                        <a:pt x="52832" y="123190"/>
                        <a:pt x="0" y="92329"/>
                        <a:pt x="0" y="55118"/>
                      </a:cubicBezTo>
                      <a:cubicBezTo>
                        <a:pt x="0" y="17780"/>
                        <a:pt x="52705" y="0"/>
                        <a:pt x="117856" y="0"/>
                      </a:cubicBezTo>
                      <a:cubicBezTo>
                        <a:pt x="183007" y="0"/>
                        <a:pt x="235712" y="6477"/>
                        <a:pt x="235712" y="55118"/>
                      </a:cubicBezTo>
                      <a:close/>
                    </a:path>
                  </a:pathLst>
                </a:custGeom>
                <a:solidFill>
                  <a:srgbClr val="87adb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任意多边形: 形状 42"/>
                <p:cNvSpPr/>
                <p:nvPr/>
              </p:nvSpPr>
              <p:spPr>
                <a:xfrm>
                  <a:off x="5717160" y="4214520"/>
                  <a:ext cx="109800" cy="89280"/>
                </a:xfrm>
                <a:custGeom>
                  <a:avLst/>
                  <a:gdLst/>
                  <a:ahLst/>
                  <a:rect l="l" t="t" r="r" b="b"/>
                  <a:pathLst>
                    <a:path w="223775" h="136272">
                      <a:moveTo>
                        <a:pt x="223774" y="58420"/>
                      </a:moveTo>
                      <a:cubicBezTo>
                        <a:pt x="223774" y="17907"/>
                        <a:pt x="173736" y="0"/>
                        <a:pt x="111887" y="0"/>
                      </a:cubicBezTo>
                      <a:cubicBezTo>
                        <a:pt x="50038" y="0"/>
                        <a:pt x="0" y="47625"/>
                        <a:pt x="0" y="58420"/>
                      </a:cubicBezTo>
                      <a:cubicBezTo>
                        <a:pt x="0" y="103759"/>
                        <a:pt x="50038" y="136271"/>
                        <a:pt x="111887" y="136271"/>
                      </a:cubicBezTo>
                      <a:cubicBezTo>
                        <a:pt x="173736" y="136271"/>
                        <a:pt x="223774" y="98933"/>
                        <a:pt x="223774" y="58420"/>
                      </a:cubicBezTo>
                      <a:close/>
                    </a:path>
                  </a:pathLst>
                </a:custGeom>
                <a:solidFill>
                  <a:srgbClr val="8e93c8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任意多边形: 形状 43"/>
                <p:cNvSpPr/>
                <p:nvPr/>
              </p:nvSpPr>
              <p:spPr>
                <a:xfrm>
                  <a:off x="5880600" y="4219560"/>
                  <a:ext cx="120240" cy="83880"/>
                </a:xfrm>
                <a:custGeom>
                  <a:avLst/>
                  <a:gdLst/>
                  <a:ahLst/>
                  <a:rect l="l" t="t" r="r" b="b"/>
                  <a:pathLst>
                    <a:path w="244857" h="128144">
                      <a:moveTo>
                        <a:pt x="244856" y="60833"/>
                      </a:moveTo>
                      <a:cubicBezTo>
                        <a:pt x="244856" y="94107"/>
                        <a:pt x="189992" y="128143"/>
                        <a:pt x="122428" y="128143"/>
                      </a:cubicBezTo>
                      <a:cubicBezTo>
                        <a:pt x="54864" y="128143"/>
                        <a:pt x="0" y="95758"/>
                        <a:pt x="0" y="60833"/>
                      </a:cubicBezTo>
                      <a:cubicBezTo>
                        <a:pt x="0" y="45212"/>
                        <a:pt x="54864" y="0"/>
                        <a:pt x="122428" y="0"/>
                      </a:cubicBezTo>
                      <a:cubicBezTo>
                        <a:pt x="189992" y="0"/>
                        <a:pt x="244856" y="27559"/>
                        <a:pt x="244856" y="60833"/>
                      </a:cubicBezTo>
                      <a:close/>
                    </a:path>
                  </a:pathLst>
                </a:custGeom>
                <a:solidFill>
                  <a:srgbClr val="eae630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组合 16"/>
              <p:cNvGrpSpPr/>
              <p:nvPr/>
            </p:nvGrpSpPr>
            <p:grpSpPr>
              <a:xfrm>
                <a:off x="6001200" y="2765880"/>
                <a:ext cx="520920" cy="522000"/>
                <a:chOff x="6001200" y="2765880"/>
                <a:chExt cx="520920" cy="522000"/>
              </a:xfrm>
            </p:grpSpPr>
            <p:sp>
              <p:nvSpPr>
                <p:cNvPr id="580" name="任意多边形: 形状 17"/>
                <p:cNvSpPr/>
                <p:nvPr/>
              </p:nvSpPr>
              <p:spPr>
                <a:xfrm>
                  <a:off x="6001200" y="2895120"/>
                  <a:ext cx="130680" cy="225360"/>
                </a:xfrm>
                <a:custGeom>
                  <a:avLst/>
                  <a:gdLst/>
                  <a:ahLst/>
                  <a:rect l="l" t="t" r="r" b="b"/>
                  <a:pathLst>
                    <a:path w="265939" h="343663">
                      <a:moveTo>
                        <a:pt x="265938" y="171831"/>
                      </a:moveTo>
                      <a:cubicBezTo>
                        <a:pt x="265938" y="266700"/>
                        <a:pt x="217297" y="343662"/>
                        <a:pt x="143891" y="343662"/>
                      </a:cubicBezTo>
                      <a:cubicBezTo>
                        <a:pt x="70485" y="343662"/>
                        <a:pt x="0" y="266700"/>
                        <a:pt x="0" y="171831"/>
                      </a:cubicBezTo>
                      <a:cubicBezTo>
                        <a:pt x="0" y="76962"/>
                        <a:pt x="49403" y="0"/>
                        <a:pt x="122809" y="0"/>
                      </a:cubicBezTo>
                      <a:cubicBezTo>
                        <a:pt x="196342" y="0"/>
                        <a:pt x="265938" y="76962"/>
                        <a:pt x="265938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任意多边形: 形状 18"/>
                <p:cNvSpPr/>
                <p:nvPr/>
              </p:nvSpPr>
              <p:spPr>
                <a:xfrm>
                  <a:off x="6392880" y="2765880"/>
                  <a:ext cx="124560" cy="225360"/>
                </a:xfrm>
                <a:custGeom>
                  <a:avLst/>
                  <a:gdLst/>
                  <a:ahLst/>
                  <a:rect l="l" t="t" r="r" b="b"/>
                  <a:pathLst>
                    <a:path w="253493" h="343663">
                      <a:moveTo>
                        <a:pt x="253492" y="171831"/>
                      </a:moveTo>
                      <a:cubicBezTo>
                        <a:pt x="253492" y="266700"/>
                        <a:pt x="206375" y="343662"/>
                        <a:pt x="132969" y="343662"/>
                      </a:cubicBezTo>
                      <a:cubicBezTo>
                        <a:pt x="59563" y="343662"/>
                        <a:pt x="0" y="266700"/>
                        <a:pt x="0" y="171831"/>
                      </a:cubicBezTo>
                      <a:cubicBezTo>
                        <a:pt x="0" y="76962"/>
                        <a:pt x="59563" y="0"/>
                        <a:pt x="132969" y="0"/>
                      </a:cubicBezTo>
                      <a:cubicBezTo>
                        <a:pt x="206375" y="0"/>
                        <a:pt x="253492" y="76835"/>
                        <a:pt x="253492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任意多边形: 形状 19"/>
                <p:cNvSpPr/>
                <p:nvPr/>
              </p:nvSpPr>
              <p:spPr>
                <a:xfrm>
                  <a:off x="6060600" y="2940480"/>
                  <a:ext cx="73080" cy="118080"/>
                </a:xfrm>
                <a:custGeom>
                  <a:avLst/>
                  <a:gdLst/>
                  <a:ahLst/>
                  <a:rect l="l" t="t" r="r" b="b"/>
                  <a:pathLst>
                    <a:path w="149226" h="180468">
                      <a:moveTo>
                        <a:pt x="108077" y="0"/>
                      </a:moveTo>
                      <a:cubicBezTo>
                        <a:pt x="149225" y="50800"/>
                        <a:pt x="148463" y="111125"/>
                        <a:pt x="126365" y="176276"/>
                      </a:cubicBezTo>
                      <a:cubicBezTo>
                        <a:pt x="19431" y="180467"/>
                        <a:pt x="0" y="17018"/>
                        <a:pt x="108077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任意多边形: 形状 20"/>
                <p:cNvSpPr/>
                <p:nvPr/>
              </p:nvSpPr>
              <p:spPr>
                <a:xfrm>
                  <a:off x="6444000" y="2809080"/>
                  <a:ext cx="78120" cy="122760"/>
                </a:xfrm>
                <a:custGeom>
                  <a:avLst/>
                  <a:gdLst/>
                  <a:ahLst/>
                  <a:rect l="l" t="t" r="r" b="b"/>
                  <a:pathLst>
                    <a:path w="159259" h="187199">
                      <a:moveTo>
                        <a:pt x="119761" y="0"/>
                      </a:moveTo>
                      <a:cubicBezTo>
                        <a:pt x="159258" y="52070"/>
                        <a:pt x="156591" y="112268"/>
                        <a:pt x="132334" y="176784"/>
                      </a:cubicBezTo>
                      <a:cubicBezTo>
                        <a:pt x="24003" y="187198"/>
                        <a:pt x="0" y="2921"/>
                        <a:pt x="119761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任意多边形: 形状 21"/>
                <p:cNvSpPr/>
                <p:nvPr/>
              </p:nvSpPr>
              <p:spPr>
                <a:xfrm>
                  <a:off x="6292800" y="2991240"/>
                  <a:ext cx="63720" cy="86040"/>
                </a:xfrm>
                <a:custGeom>
                  <a:avLst/>
                  <a:gdLst/>
                  <a:ahLst/>
                  <a:rect l="l" t="t" r="r" b="b"/>
                  <a:pathLst>
                    <a:path w="130176" h="131573">
                      <a:moveTo>
                        <a:pt x="0" y="0"/>
                      </a:moveTo>
                      <a:cubicBezTo>
                        <a:pt x="130175" y="19939"/>
                        <a:pt x="98171" y="70231"/>
                        <a:pt x="7239" y="131572"/>
                      </a:cubicBezTo>
                      <a:cubicBezTo>
                        <a:pt x="109474" y="56261"/>
                        <a:pt x="102108" y="25527"/>
                        <a:pt x="0" y="0"/>
                      </a:cubicBezTo>
                      <a:close/>
                    </a:path>
                  </a:pathLst>
                </a:custGeom>
                <a:solidFill>
                  <a:srgbClr val="2a2a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任意多边形: 形状 22"/>
                <p:cNvSpPr/>
                <p:nvPr/>
              </p:nvSpPr>
              <p:spPr>
                <a:xfrm>
                  <a:off x="6133680" y="3191760"/>
                  <a:ext cx="215640" cy="96120"/>
                </a:xfrm>
                <a:custGeom>
                  <a:avLst/>
                  <a:gdLst/>
                  <a:ahLst/>
                  <a:rect l="l" t="t" r="r" b="b"/>
                  <a:pathLst>
                    <a:path w="438532" h="146686">
                      <a:moveTo>
                        <a:pt x="0" y="106172"/>
                      </a:moveTo>
                      <a:cubicBezTo>
                        <a:pt x="161290" y="146685"/>
                        <a:pt x="366903" y="126238"/>
                        <a:pt x="438531" y="0"/>
                      </a:cubicBezTo>
                      <a:cubicBezTo>
                        <a:pt x="353441" y="105283"/>
                        <a:pt x="178308" y="134493"/>
                        <a:pt x="0" y="106172"/>
                      </a:cubicBezTo>
                      <a:close/>
                    </a:path>
                  </a:pathLst>
                </a:custGeom>
                <a:solidFill>
                  <a:srgbClr val="2c2b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86" name="组合 65"/>
          <p:cNvGrpSpPr/>
          <p:nvPr/>
        </p:nvGrpSpPr>
        <p:grpSpPr>
          <a:xfrm>
            <a:off x="7912080" y="4732200"/>
            <a:ext cx="839880" cy="1203480"/>
            <a:chOff x="7912080" y="4732200"/>
            <a:chExt cx="839880" cy="1203480"/>
          </a:xfrm>
        </p:grpSpPr>
        <p:grpSp>
          <p:nvGrpSpPr>
            <p:cNvPr id="587" name="组合 66"/>
            <p:cNvGrpSpPr/>
            <p:nvPr/>
          </p:nvGrpSpPr>
          <p:grpSpPr>
            <a:xfrm>
              <a:off x="8082360" y="5505120"/>
              <a:ext cx="421200" cy="430560"/>
              <a:chOff x="8082360" y="5505120"/>
              <a:chExt cx="421200" cy="430560"/>
            </a:xfrm>
          </p:grpSpPr>
          <p:sp>
            <p:nvSpPr>
              <p:cNvPr id="588" name="任意多边形: 形状 73"/>
              <p:cNvSpPr/>
              <p:nvPr/>
            </p:nvSpPr>
            <p:spPr>
              <a:xfrm>
                <a:off x="8367120" y="5505120"/>
                <a:ext cx="136440" cy="420840"/>
              </a:xfrm>
              <a:custGeom>
                <a:avLst/>
                <a:gdLst/>
                <a:ahLst/>
                <a:rect l="l" t="t" r="r" b="b"/>
                <a:pathLst>
                  <a:path w="98934" h="228474">
                    <a:moveTo>
                      <a:pt x="98933" y="183134"/>
                    </a:moveTo>
                    <a:cubicBezTo>
                      <a:pt x="87630" y="217170"/>
                      <a:pt x="22733" y="228473"/>
                      <a:pt x="0" y="183134"/>
                    </a:cubicBezTo>
                    <a:lnTo>
                      <a:pt x="8128" y="6477"/>
                    </a:lnTo>
                    <a:lnTo>
                      <a:pt x="75565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任意多边形: 形状 74"/>
              <p:cNvSpPr/>
              <p:nvPr/>
            </p:nvSpPr>
            <p:spPr>
              <a:xfrm>
                <a:off x="8082360" y="5551920"/>
                <a:ext cx="128880" cy="383760"/>
              </a:xfrm>
              <a:custGeom>
                <a:avLst/>
                <a:gdLst/>
                <a:ahLst/>
                <a:rect l="l" t="t" r="r" b="b"/>
                <a:pathLst>
                  <a:path w="93346" h="208281">
                    <a:moveTo>
                      <a:pt x="93345" y="165735"/>
                    </a:moveTo>
                    <a:cubicBezTo>
                      <a:pt x="83185" y="196850"/>
                      <a:pt x="22225" y="208280"/>
                      <a:pt x="0" y="167386"/>
                    </a:cubicBezTo>
                    <a:lnTo>
                      <a:pt x="4699" y="6985"/>
                    </a:lnTo>
                    <a:lnTo>
                      <a:pt x="68199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组合 67"/>
            <p:cNvGrpSpPr/>
            <p:nvPr/>
          </p:nvGrpSpPr>
          <p:grpSpPr>
            <a:xfrm>
              <a:off x="7912080" y="4732200"/>
              <a:ext cx="839880" cy="954360"/>
              <a:chOff x="7912080" y="4732200"/>
              <a:chExt cx="839880" cy="954360"/>
            </a:xfrm>
          </p:grpSpPr>
          <p:sp>
            <p:nvSpPr>
              <p:cNvPr id="591" name="任意多边形: 形状 71"/>
              <p:cNvSpPr/>
              <p:nvPr/>
            </p:nvSpPr>
            <p:spPr>
              <a:xfrm>
                <a:off x="8098560" y="4732200"/>
                <a:ext cx="653400" cy="785160"/>
              </a:xfrm>
              <a:custGeom>
                <a:avLst/>
                <a:gdLst/>
                <a:ahLst/>
                <a:rect l="l" t="t" r="r" b="b"/>
                <a:pathLst>
                  <a:path w="473330" h="426086">
                    <a:moveTo>
                      <a:pt x="210693" y="0"/>
                    </a:moveTo>
                    <a:cubicBezTo>
                      <a:pt x="403606" y="0"/>
                      <a:pt x="473329" y="401701"/>
                      <a:pt x="236601" y="426085"/>
                    </a:cubicBezTo>
                    <a:cubicBezTo>
                      <a:pt x="0" y="426085"/>
                      <a:pt x="48514" y="38608"/>
                      <a:pt x="210693" y="0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任意多边形: 形状 72"/>
              <p:cNvSpPr/>
              <p:nvPr/>
            </p:nvSpPr>
            <p:spPr>
              <a:xfrm>
                <a:off x="7912080" y="5051520"/>
                <a:ext cx="510480" cy="635040"/>
              </a:xfrm>
              <a:custGeom>
                <a:avLst/>
                <a:gdLst/>
                <a:ahLst/>
                <a:rect l="l" t="t" r="r" b="b"/>
                <a:pathLst>
                  <a:path w="369952" h="344679">
                    <a:moveTo>
                      <a:pt x="126238" y="19685"/>
                    </a:moveTo>
                    <a:cubicBezTo>
                      <a:pt x="277876" y="0"/>
                      <a:pt x="369951" y="278892"/>
                      <a:pt x="186182" y="320421"/>
                    </a:cubicBezTo>
                    <a:cubicBezTo>
                      <a:pt x="0" y="344678"/>
                      <a:pt x="2413" y="63754"/>
                      <a:pt x="126238" y="19685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" name="组合 68"/>
            <p:cNvGrpSpPr/>
            <p:nvPr/>
          </p:nvGrpSpPr>
          <p:grpSpPr>
            <a:xfrm>
              <a:off x="8059320" y="5056920"/>
              <a:ext cx="484920" cy="447480"/>
              <a:chOff x="8059320" y="5056920"/>
              <a:chExt cx="484920" cy="447480"/>
            </a:xfrm>
          </p:grpSpPr>
          <p:sp>
            <p:nvSpPr>
              <p:cNvPr id="594" name="椭圆 69"/>
              <p:cNvSpPr/>
              <p:nvPr/>
            </p:nvSpPr>
            <p:spPr>
              <a:xfrm>
                <a:off x="8398440" y="5056920"/>
                <a:ext cx="145800" cy="2685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椭圆 70"/>
              <p:cNvSpPr/>
              <p:nvPr/>
            </p:nvSpPr>
            <p:spPr>
              <a:xfrm>
                <a:off x="8059320" y="5288040"/>
                <a:ext cx="112320" cy="2163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6" name="Freeform 106"/>
          <p:cNvSpPr/>
          <p:nvPr/>
        </p:nvSpPr>
        <p:spPr>
          <a:xfrm>
            <a:off x="6539040" y="1101600"/>
            <a:ext cx="62676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106"/>
          <p:cNvSpPr/>
          <p:nvPr/>
        </p:nvSpPr>
        <p:spPr>
          <a:xfrm>
            <a:off x="4297320" y="30636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106"/>
          <p:cNvSpPr/>
          <p:nvPr/>
        </p:nvSpPr>
        <p:spPr>
          <a:xfrm>
            <a:off x="2327400" y="955800"/>
            <a:ext cx="952200" cy="5634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组合 78"/>
          <p:cNvGrpSpPr/>
          <p:nvPr/>
        </p:nvGrpSpPr>
        <p:grpSpPr>
          <a:xfrm>
            <a:off x="297000" y="290520"/>
            <a:ext cx="1295280" cy="1623960"/>
            <a:chOff x="297000" y="290520"/>
            <a:chExt cx="1295280" cy="1623960"/>
          </a:xfrm>
        </p:grpSpPr>
        <p:sp>
          <p:nvSpPr>
            <p:cNvPr id="600" name="任意多边形: 形状 79"/>
            <p:cNvSpPr/>
            <p:nvPr/>
          </p:nvSpPr>
          <p:spPr>
            <a:xfrm>
              <a:off x="586440" y="754920"/>
              <a:ext cx="602280" cy="678960"/>
            </a:xfrm>
            <a:custGeom>
              <a:avLst/>
              <a:gdLst/>
              <a:ahLst/>
              <a:rect l="l" t="t" r="r" b="b"/>
              <a:pathLst>
                <a:path w="665227" h="562103">
                  <a:moveTo>
                    <a:pt x="665226" y="298958"/>
                  </a:moveTo>
                  <a:cubicBezTo>
                    <a:pt x="665226" y="446405"/>
                    <a:pt x="513842" y="562102"/>
                    <a:pt x="366395" y="562102"/>
                  </a:cubicBezTo>
                  <a:cubicBezTo>
                    <a:pt x="218948" y="562102"/>
                    <a:pt x="47498" y="532257"/>
                    <a:pt x="47498" y="384810"/>
                  </a:cubicBezTo>
                  <a:cubicBezTo>
                    <a:pt x="0" y="160020"/>
                    <a:pt x="218948" y="0"/>
                    <a:pt x="366395" y="0"/>
                  </a:cubicBezTo>
                  <a:cubicBezTo>
                    <a:pt x="513842" y="127"/>
                    <a:pt x="665226" y="69342"/>
                    <a:pt x="665226" y="298958"/>
                  </a:cubicBezTo>
                  <a:close/>
                </a:path>
              </a:pathLst>
            </a:custGeom>
            <a:solidFill>
              <a:srgbClr val="d8660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直接连接符 80"/>
            <p:cNvSpPr/>
            <p:nvPr/>
          </p:nvSpPr>
          <p:spPr>
            <a:xfrm>
              <a:off x="371160" y="551520"/>
              <a:ext cx="105480" cy="266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任意多边形: 形状 81"/>
            <p:cNvSpPr/>
            <p:nvPr/>
          </p:nvSpPr>
          <p:spPr>
            <a:xfrm>
              <a:off x="655560" y="290520"/>
              <a:ext cx="52200" cy="229680"/>
            </a:xfrm>
            <a:custGeom>
              <a:avLst/>
              <a:gdLst/>
              <a:ahLst/>
              <a:rect l="l" t="t" r="r" b="b"/>
              <a:pathLst>
                <a:path w="57660" h="190247">
                  <a:moveTo>
                    <a:pt x="5715" y="0"/>
                  </a:moveTo>
                  <a:cubicBezTo>
                    <a:pt x="0" y="63373"/>
                    <a:pt x="17272" y="126873"/>
                    <a:pt x="57659" y="190246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直接连接符 82"/>
            <p:cNvSpPr/>
            <p:nvPr/>
          </p:nvSpPr>
          <p:spPr>
            <a:xfrm>
              <a:off x="997560" y="316440"/>
              <a:ext cx="3600" cy="24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任意多边形: 形状 83"/>
            <p:cNvSpPr/>
            <p:nvPr/>
          </p:nvSpPr>
          <p:spPr>
            <a:xfrm>
              <a:off x="1361520" y="883800"/>
              <a:ext cx="230760" cy="69480"/>
            </a:xfrm>
            <a:custGeom>
              <a:avLst/>
              <a:gdLst/>
              <a:ahLst/>
              <a:rect l="l" t="t" r="r" b="b"/>
              <a:pathLst>
                <a:path w="255145" h="57659">
                  <a:moveTo>
                    <a:pt x="0" y="18796"/>
                  </a:moveTo>
                  <a:cubicBezTo>
                    <a:pt x="85090" y="0"/>
                    <a:pt x="170053" y="13081"/>
                    <a:pt x="255144" y="5765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直接连接符 84"/>
            <p:cNvSpPr/>
            <p:nvPr/>
          </p:nvSpPr>
          <p:spPr>
            <a:xfrm>
              <a:off x="1290960" y="1460160"/>
              <a:ext cx="97560" cy="245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直接连接符 85"/>
            <p:cNvSpPr/>
            <p:nvPr/>
          </p:nvSpPr>
          <p:spPr>
            <a:xfrm flipH="1">
              <a:off x="707400" y="1684800"/>
              <a:ext cx="97560" cy="229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直接连接符 86"/>
            <p:cNvSpPr/>
            <p:nvPr/>
          </p:nvSpPr>
          <p:spPr>
            <a:xfrm>
              <a:off x="297000" y="1298520"/>
              <a:ext cx="152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69DA-F7E7-4859-B3D3-58E43454FC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3873-0D80-4877-AF3C-9462A6EDEA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2E73-52A0-439C-8113-B9BA50FDDE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1444-1E15-49AA-BF67-A78204300C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图片 9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6D72-5595-440D-B913-18FDF83E8A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3D6C-2A43-4C2F-ABD7-CD5611B563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9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6237-F385-4B21-830C-90F8A5A328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94A3-6CAF-473F-8392-6C976C7EDB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图片 10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C22B-C68F-495F-8D8A-109CAB360E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76AC-53C2-4165-84E0-BEB27586DD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组合 145" descr=""/>
          <p:cNvPicPr/>
          <p:nvPr/>
        </p:nvPicPr>
        <p:blipFill>
          <a:blip r:embed="rId2"/>
          <a:stretch/>
        </p:blipFill>
        <p:spPr>
          <a:xfrm>
            <a:off x="1158840" y="782640"/>
            <a:ext cx="614520" cy="588960"/>
          </a:xfrm>
          <a:prstGeom prst="rect">
            <a:avLst/>
          </a:prstGeom>
          <a:ln w="0">
            <a:noFill/>
          </a:ln>
        </p:spPr>
      </p:pic>
      <p:pic>
        <p:nvPicPr>
          <p:cNvPr id="827" name="组合 153" descr=""/>
          <p:cNvPicPr/>
          <p:nvPr/>
        </p:nvPicPr>
        <p:blipFill>
          <a:blip r:embed="rId3"/>
          <a:stretch/>
        </p:blipFill>
        <p:spPr>
          <a:xfrm>
            <a:off x="2023920" y="396720"/>
            <a:ext cx="473040" cy="4827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9" descr=""/>
          <p:cNvPicPr/>
          <p:nvPr/>
        </p:nvPicPr>
        <p:blipFill>
          <a:blip r:embed="rId4"/>
          <a:stretch/>
        </p:blipFill>
        <p:spPr>
          <a:xfrm>
            <a:off x="243000" y="338040"/>
            <a:ext cx="923760" cy="115884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CB22-B65C-4040-8509-2DC365676D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F5EC-0845-4A54-9C66-EB4BCC71CE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8B79-4B3A-4E4B-A7E6-E627A7BE64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57C1-6C8D-4983-B2E9-DD2EF1C6FD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9B67-CF52-43A6-B562-3AC2CEC780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BEB6-7FC9-4F26-BB5D-07C3B8CE32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图片 31" descr=""/>
          <p:cNvPicPr/>
          <p:nvPr/>
        </p:nvPicPr>
        <p:blipFill>
          <a:blip r:embed="rId2"/>
          <a:stretch/>
        </p:blipFill>
        <p:spPr>
          <a:xfrm>
            <a:off x="415800" y="254160"/>
            <a:ext cx="8650440" cy="6565680"/>
          </a:xfrm>
          <a:prstGeom prst="rect">
            <a:avLst/>
          </a:prstGeom>
          <a:ln w="0">
            <a:noFill/>
          </a:ln>
        </p:spPr>
      </p:pic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AEE9-C9DC-4223-BE69-672D83CDC6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5DCC-94CA-4645-930F-8FBCA6F157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A1EA-3D7B-4B92-8AAE-F4A347FEC3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9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95" descr=""/>
          <p:cNvPicPr/>
          <p:nvPr/>
        </p:nvPicPr>
        <p:blipFill>
          <a:blip r:embed="rId3"/>
          <a:stretch/>
        </p:blipFill>
        <p:spPr>
          <a:xfrm>
            <a:off x="5292720" y="1400040"/>
            <a:ext cx="3282840" cy="460404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99" descr=""/>
          <p:cNvPicPr/>
          <p:nvPr/>
        </p:nvPicPr>
        <p:blipFill>
          <a:blip r:embed="rId4"/>
          <a:stretch/>
        </p:blipFill>
        <p:spPr>
          <a:xfrm>
            <a:off x="390600" y="433440"/>
            <a:ext cx="1298520" cy="163332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01" descr=""/>
          <p:cNvPicPr/>
          <p:nvPr/>
        </p:nvPicPr>
        <p:blipFill>
          <a:blip r:embed="rId5"/>
          <a:stretch/>
        </p:blipFill>
        <p:spPr>
          <a:xfrm>
            <a:off x="2604960" y="398520"/>
            <a:ext cx="4965840" cy="12985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293F-4B5C-424B-BD4B-CC6142E6B8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1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4884-C284-4BEA-88E3-49970E7C5C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BD3F-B032-47C6-9576-B50AE1FAEE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7B48-80AD-4E0B-99F9-1288231297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图片 8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89" descr=""/>
          <p:cNvPicPr/>
          <p:nvPr/>
        </p:nvPicPr>
        <p:blipFill>
          <a:blip r:embed="rId3"/>
          <a:stretch/>
        </p:blipFill>
        <p:spPr>
          <a:xfrm>
            <a:off x="627120" y="1398600"/>
            <a:ext cx="2886120" cy="482292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91" descr=""/>
          <p:cNvPicPr/>
          <p:nvPr/>
        </p:nvPicPr>
        <p:blipFill>
          <a:blip r:embed="rId4"/>
          <a:stretch/>
        </p:blipFill>
        <p:spPr>
          <a:xfrm>
            <a:off x="7232760" y="4189320"/>
            <a:ext cx="1687320" cy="2041560"/>
          </a:xfrm>
          <a:prstGeom prst="rect">
            <a:avLst/>
          </a:prstGeom>
          <a:ln w="0">
            <a:noFill/>
          </a:ln>
        </p:spPr>
      </p:pic>
      <p:sp>
        <p:nvSpPr>
          <p:cNvPr id="219" name="Freeform 106"/>
          <p:cNvSpPr/>
          <p:nvPr/>
        </p:nvSpPr>
        <p:spPr>
          <a:xfrm>
            <a:off x="7777080" y="1486080"/>
            <a:ext cx="625680" cy="42192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06"/>
          <p:cNvSpPr/>
          <p:nvPr/>
        </p:nvSpPr>
        <p:spPr>
          <a:xfrm>
            <a:off x="6904080" y="741240"/>
            <a:ext cx="62532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ED36-08AE-4320-AABD-794A7BF9B0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4966-500C-4412-BA6C-6D9C3921C0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9D72-1D25-46D0-9448-068083F721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3F39-B794-48CF-B679-1E36F54303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图片 9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8C90-0D97-4BD7-A3C3-3029379F0D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89D3-4BC9-4797-8935-D060E21032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106"/>
          <p:cNvSpPr/>
          <p:nvPr/>
        </p:nvSpPr>
        <p:spPr>
          <a:xfrm>
            <a:off x="2527200" y="63828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06"/>
          <p:cNvSpPr/>
          <p:nvPr/>
        </p:nvSpPr>
        <p:spPr>
          <a:xfrm>
            <a:off x="1692360" y="1231920"/>
            <a:ext cx="952560" cy="5652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90" descr=""/>
          <p:cNvPicPr/>
          <p:nvPr/>
        </p:nvPicPr>
        <p:blipFill>
          <a:blip r:embed="rId2"/>
          <a:stretch/>
        </p:blipFill>
        <p:spPr>
          <a:xfrm>
            <a:off x="417600" y="257040"/>
            <a:ext cx="1298520" cy="163512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92" descr=""/>
          <p:cNvPicPr/>
          <p:nvPr/>
        </p:nvPicPr>
        <p:blipFill>
          <a:blip r:embed="rId3"/>
          <a:stretch/>
        </p:blipFill>
        <p:spPr>
          <a:xfrm>
            <a:off x="0" y="5214960"/>
            <a:ext cx="9144000" cy="164304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94" descr=""/>
          <p:cNvPicPr/>
          <p:nvPr/>
        </p:nvPicPr>
        <p:blipFill>
          <a:blip r:embed="rId4"/>
          <a:stretch/>
        </p:blipFill>
        <p:spPr>
          <a:xfrm>
            <a:off x="7278840" y="4546440"/>
            <a:ext cx="1842840" cy="226224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96" descr=""/>
          <p:cNvPicPr/>
          <p:nvPr/>
        </p:nvPicPr>
        <p:blipFill>
          <a:blip r:embed="rId5"/>
          <a:stretch/>
        </p:blipFill>
        <p:spPr>
          <a:xfrm>
            <a:off x="8134200" y="3645000"/>
            <a:ext cx="777960" cy="10476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9915-D64B-4677-A4C2-4891D6177A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AFB8-B6F8-432E-AE90-C90B52C791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image" Target="../media/image22.png"/><Relationship Id="rId18" Type="http://schemas.openxmlformats.org/officeDocument/2006/relationships/image" Target="../media/image22.png"/><Relationship Id="rId1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1" descr="QQ图片20200803095319"/>
          <p:cNvPicPr/>
          <p:nvPr/>
        </p:nvPicPr>
        <p:blipFill>
          <a:blip r:embed="rId1"/>
          <a:stretch/>
        </p:blipFill>
        <p:spPr>
          <a:xfrm>
            <a:off x="76320" y="598320"/>
            <a:ext cx="861372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图片 69633" descr=""/>
          <p:cNvPicPr/>
          <p:nvPr/>
        </p:nvPicPr>
        <p:blipFill>
          <a:blip r:embed="rId1"/>
          <a:stretch/>
        </p:blipFill>
        <p:spPr>
          <a:xfrm>
            <a:off x="395280" y="847800"/>
            <a:ext cx="8353440" cy="5676840"/>
          </a:xfrm>
          <a:prstGeom prst="rect">
            <a:avLst/>
          </a:prstGeom>
          <a:ln w="0">
            <a:noFill/>
          </a:ln>
        </p:spPr>
      </p:pic>
      <p:pic>
        <p:nvPicPr>
          <p:cNvPr id="1016" name="图片 69634" descr=""/>
          <p:cNvPicPr/>
          <p:nvPr/>
        </p:nvPicPr>
        <p:blipFill>
          <a:blip r:embed="rId2"/>
          <a:stretch/>
        </p:blipFill>
        <p:spPr>
          <a:xfrm>
            <a:off x="1332000" y="3224160"/>
            <a:ext cx="72295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图片 68609" descr=""/>
          <p:cNvPicPr/>
          <p:nvPr/>
        </p:nvPicPr>
        <p:blipFill>
          <a:blip r:embed="rId1"/>
          <a:stretch/>
        </p:blipFill>
        <p:spPr>
          <a:xfrm>
            <a:off x="385920" y="1795320"/>
            <a:ext cx="8372160" cy="326736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2"/>
          <a:stretch/>
        </p:blipFill>
        <p:spPr>
          <a:xfrm>
            <a:off x="684360" y="2171880"/>
            <a:ext cx="4535280" cy="2793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3"/>
          <a:stretch/>
        </p:blipFill>
        <p:spPr>
          <a:xfrm>
            <a:off x="468360" y="3573360"/>
            <a:ext cx="4535280" cy="27936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4"/>
          <a:stretch/>
        </p:blipFill>
        <p:spPr>
          <a:xfrm>
            <a:off x="539640" y="4653000"/>
            <a:ext cx="453564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67585" descr=""/>
          <p:cNvPicPr/>
          <p:nvPr/>
        </p:nvPicPr>
        <p:blipFill>
          <a:blip r:embed="rId1"/>
          <a:stretch/>
        </p:blipFill>
        <p:spPr>
          <a:xfrm>
            <a:off x="214200" y="2085840"/>
            <a:ext cx="8715600" cy="268632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2"/>
          <a:stretch/>
        </p:blipFill>
        <p:spPr>
          <a:xfrm>
            <a:off x="539640" y="2819520"/>
            <a:ext cx="8425080" cy="27936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3"/>
          <a:stretch/>
        </p:blipFill>
        <p:spPr>
          <a:xfrm>
            <a:off x="539640" y="3151080"/>
            <a:ext cx="8425080" cy="27936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4"/>
          <a:stretch/>
        </p:blipFill>
        <p:spPr>
          <a:xfrm>
            <a:off x="539640" y="3510000"/>
            <a:ext cx="8425080" cy="2793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5"/>
          <a:stretch/>
        </p:blipFill>
        <p:spPr>
          <a:xfrm>
            <a:off x="539640" y="3870360"/>
            <a:ext cx="8425080" cy="2793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6"/>
          <a:stretch/>
        </p:blipFill>
        <p:spPr>
          <a:xfrm>
            <a:off x="468360" y="4230720"/>
            <a:ext cx="842472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60428" descr=""/>
          <p:cNvPicPr/>
          <p:nvPr/>
        </p:nvPicPr>
        <p:blipFill>
          <a:blip r:embed="rId1"/>
          <a:stretch/>
        </p:blipFill>
        <p:spPr>
          <a:xfrm>
            <a:off x="247680" y="847800"/>
            <a:ext cx="8648640" cy="51624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8244000" y="126828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8172360" y="165744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8244000" y="249228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8244000" y="286236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6"/>
          <a:stretch/>
        </p:blipFill>
        <p:spPr>
          <a:xfrm>
            <a:off x="8244000" y="369720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7"/>
          <a:stretch/>
        </p:blipFill>
        <p:spPr>
          <a:xfrm>
            <a:off x="2627280" y="4878360"/>
            <a:ext cx="36036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图片 59410" descr=""/>
          <p:cNvPicPr/>
          <p:nvPr/>
        </p:nvPicPr>
        <p:blipFill>
          <a:blip r:embed="rId1"/>
          <a:stretch/>
        </p:blipFill>
        <p:spPr>
          <a:xfrm>
            <a:off x="376200" y="909720"/>
            <a:ext cx="8391600" cy="50385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2"/>
          <a:stretch/>
        </p:blipFill>
        <p:spPr>
          <a:xfrm>
            <a:off x="6256440" y="89388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3"/>
          <a:stretch/>
        </p:blipFill>
        <p:spPr>
          <a:xfrm>
            <a:off x="1287360" y="249228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4"/>
          <a:stretch/>
        </p:blipFill>
        <p:spPr>
          <a:xfrm>
            <a:off x="6075360" y="368784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5"/>
          <a:stretch/>
        </p:blipFill>
        <p:spPr>
          <a:xfrm>
            <a:off x="6649920" y="4869000"/>
            <a:ext cx="36036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图片 58373" descr=""/>
          <p:cNvPicPr/>
          <p:nvPr/>
        </p:nvPicPr>
        <p:blipFill>
          <a:blip r:embed="rId1"/>
          <a:stretch/>
        </p:blipFill>
        <p:spPr>
          <a:xfrm>
            <a:off x="252360" y="819000"/>
            <a:ext cx="8639280" cy="55627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2"/>
          <a:stretch/>
        </p:blipFill>
        <p:spPr>
          <a:xfrm>
            <a:off x="755640" y="4249800"/>
            <a:ext cx="8209080" cy="2793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3"/>
          <a:stretch/>
        </p:blipFill>
        <p:spPr>
          <a:xfrm>
            <a:off x="611280" y="4600440"/>
            <a:ext cx="8208720" cy="2793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4"/>
          <a:stretch/>
        </p:blipFill>
        <p:spPr>
          <a:xfrm>
            <a:off x="468360" y="6021360"/>
            <a:ext cx="820908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图片 57352" descr=""/>
          <p:cNvPicPr/>
          <p:nvPr/>
        </p:nvPicPr>
        <p:blipFill>
          <a:blip r:embed="rId1"/>
          <a:stretch/>
        </p:blipFill>
        <p:spPr>
          <a:xfrm>
            <a:off x="338040" y="2838600"/>
            <a:ext cx="8467920" cy="118080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2"/>
          <a:stretch/>
        </p:blipFill>
        <p:spPr>
          <a:xfrm>
            <a:off x="611280" y="3592440"/>
            <a:ext cx="540072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图片 56324" descr=""/>
          <p:cNvPicPr/>
          <p:nvPr/>
        </p:nvPicPr>
        <p:blipFill>
          <a:blip r:embed="rId1"/>
          <a:stretch/>
        </p:blipFill>
        <p:spPr>
          <a:xfrm>
            <a:off x="204840" y="947880"/>
            <a:ext cx="8734320" cy="496224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2"/>
          <a:stretch/>
        </p:blipFill>
        <p:spPr>
          <a:xfrm>
            <a:off x="2411280" y="372600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3"/>
          <a:stretch/>
        </p:blipFill>
        <p:spPr>
          <a:xfrm>
            <a:off x="5003640" y="372600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4"/>
          <a:stretch/>
        </p:blipFill>
        <p:spPr>
          <a:xfrm>
            <a:off x="5076720" y="409572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5"/>
          <a:stretch/>
        </p:blipFill>
        <p:spPr>
          <a:xfrm>
            <a:off x="7885080" y="407664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6"/>
          <a:stretch/>
        </p:blipFill>
        <p:spPr>
          <a:xfrm>
            <a:off x="1979640" y="444672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7"/>
          <a:stretch/>
        </p:blipFill>
        <p:spPr>
          <a:xfrm>
            <a:off x="6372360" y="445608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8"/>
          <a:stretch/>
        </p:blipFill>
        <p:spPr>
          <a:xfrm>
            <a:off x="755640" y="5535720"/>
            <a:ext cx="532908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图片 55300" descr=""/>
          <p:cNvPicPr/>
          <p:nvPr/>
        </p:nvPicPr>
        <p:blipFill>
          <a:blip r:embed="rId1"/>
          <a:stretch/>
        </p:blipFill>
        <p:spPr>
          <a:xfrm>
            <a:off x="776160" y="995400"/>
            <a:ext cx="7591680" cy="48672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2"/>
          <a:stretch/>
        </p:blipFill>
        <p:spPr>
          <a:xfrm>
            <a:off x="2249640" y="1811160"/>
            <a:ext cx="360360" cy="46548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3"/>
          <a:stretch/>
        </p:blipFill>
        <p:spPr>
          <a:xfrm>
            <a:off x="4086360" y="1792440"/>
            <a:ext cx="360360" cy="46512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4"/>
          <a:stretch/>
        </p:blipFill>
        <p:spPr>
          <a:xfrm>
            <a:off x="6012000" y="1811160"/>
            <a:ext cx="360360" cy="46548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5"/>
          <a:stretch/>
        </p:blipFill>
        <p:spPr>
          <a:xfrm>
            <a:off x="7956720" y="1825560"/>
            <a:ext cx="360360" cy="46512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6"/>
          <a:stretch/>
        </p:blipFill>
        <p:spPr>
          <a:xfrm>
            <a:off x="2239920" y="2421000"/>
            <a:ext cx="360360" cy="46512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"/>
          <p:cNvPicPr/>
          <p:nvPr/>
        </p:nvPicPr>
        <p:blipFill>
          <a:blip r:embed="rId7"/>
          <a:stretch/>
        </p:blipFill>
        <p:spPr>
          <a:xfrm>
            <a:off x="4192560" y="2421000"/>
            <a:ext cx="360360" cy="46512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" descr=""/>
          <p:cNvPicPr/>
          <p:nvPr/>
        </p:nvPicPr>
        <p:blipFill>
          <a:blip r:embed="rId8"/>
          <a:stretch/>
        </p:blipFill>
        <p:spPr>
          <a:xfrm>
            <a:off x="6002280" y="2421000"/>
            <a:ext cx="360360" cy="46512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1" descr=""/>
          <p:cNvPicPr/>
          <p:nvPr/>
        </p:nvPicPr>
        <p:blipFill>
          <a:blip r:embed="rId9"/>
          <a:stretch/>
        </p:blipFill>
        <p:spPr>
          <a:xfrm>
            <a:off x="7875720" y="2421000"/>
            <a:ext cx="512640" cy="46512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" descr=""/>
          <p:cNvPicPr/>
          <p:nvPr/>
        </p:nvPicPr>
        <p:blipFill>
          <a:blip r:embed="rId10"/>
          <a:stretch/>
        </p:blipFill>
        <p:spPr>
          <a:xfrm>
            <a:off x="1476360" y="4105440"/>
            <a:ext cx="1871640" cy="46512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1" descr=""/>
          <p:cNvPicPr/>
          <p:nvPr/>
        </p:nvPicPr>
        <p:blipFill>
          <a:blip r:embed="rId11"/>
          <a:stretch/>
        </p:blipFill>
        <p:spPr>
          <a:xfrm>
            <a:off x="1403280" y="4662360"/>
            <a:ext cx="1297080" cy="27936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1" descr=""/>
          <p:cNvPicPr/>
          <p:nvPr/>
        </p:nvPicPr>
        <p:blipFill>
          <a:blip r:embed="rId12"/>
          <a:stretch/>
        </p:blipFill>
        <p:spPr>
          <a:xfrm>
            <a:off x="1332000" y="5022720"/>
            <a:ext cx="1297080" cy="27936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1" descr=""/>
          <p:cNvPicPr/>
          <p:nvPr/>
        </p:nvPicPr>
        <p:blipFill>
          <a:blip r:embed="rId13"/>
          <a:stretch/>
        </p:blipFill>
        <p:spPr>
          <a:xfrm>
            <a:off x="3995640" y="4140360"/>
            <a:ext cx="1871640" cy="46512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1" descr=""/>
          <p:cNvPicPr/>
          <p:nvPr/>
        </p:nvPicPr>
        <p:blipFill>
          <a:blip r:embed="rId14"/>
          <a:stretch/>
        </p:blipFill>
        <p:spPr>
          <a:xfrm>
            <a:off x="3924360" y="4724280"/>
            <a:ext cx="1871640" cy="46512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1" descr=""/>
          <p:cNvPicPr/>
          <p:nvPr/>
        </p:nvPicPr>
        <p:blipFill>
          <a:blip r:embed="rId15"/>
          <a:stretch/>
        </p:blipFill>
        <p:spPr>
          <a:xfrm>
            <a:off x="3924360" y="5238720"/>
            <a:ext cx="1871640" cy="46512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1" descr=""/>
          <p:cNvPicPr/>
          <p:nvPr/>
        </p:nvPicPr>
        <p:blipFill>
          <a:blip r:embed="rId16"/>
          <a:stretch/>
        </p:blipFill>
        <p:spPr>
          <a:xfrm>
            <a:off x="6443640" y="4130640"/>
            <a:ext cx="1871640" cy="46512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1" descr=""/>
          <p:cNvPicPr/>
          <p:nvPr/>
        </p:nvPicPr>
        <p:blipFill>
          <a:blip r:embed="rId17"/>
          <a:stretch/>
        </p:blipFill>
        <p:spPr>
          <a:xfrm>
            <a:off x="6516720" y="4700520"/>
            <a:ext cx="1871640" cy="46512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1" descr=""/>
          <p:cNvPicPr/>
          <p:nvPr/>
        </p:nvPicPr>
        <p:blipFill>
          <a:blip r:embed="rId18"/>
          <a:stretch/>
        </p:blipFill>
        <p:spPr>
          <a:xfrm>
            <a:off x="6516720" y="5300640"/>
            <a:ext cx="187164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图片 54276" descr=""/>
          <p:cNvPicPr/>
          <p:nvPr/>
        </p:nvPicPr>
        <p:blipFill>
          <a:blip r:embed="rId1"/>
          <a:stretch/>
        </p:blipFill>
        <p:spPr>
          <a:xfrm>
            <a:off x="204840" y="1176480"/>
            <a:ext cx="8734320" cy="450504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1" descr=""/>
          <p:cNvPicPr/>
          <p:nvPr/>
        </p:nvPicPr>
        <p:blipFill>
          <a:blip r:embed="rId2"/>
          <a:stretch/>
        </p:blipFill>
        <p:spPr>
          <a:xfrm>
            <a:off x="468360" y="1979640"/>
            <a:ext cx="5111640" cy="2793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1" descr=""/>
          <p:cNvPicPr/>
          <p:nvPr/>
        </p:nvPicPr>
        <p:blipFill>
          <a:blip r:embed="rId3"/>
          <a:stretch/>
        </p:blipFill>
        <p:spPr>
          <a:xfrm>
            <a:off x="179280" y="4437000"/>
            <a:ext cx="511200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52231" descr=""/>
          <p:cNvPicPr/>
          <p:nvPr/>
        </p:nvPicPr>
        <p:blipFill>
          <a:blip r:embed="rId1"/>
          <a:stretch/>
        </p:blipFill>
        <p:spPr>
          <a:xfrm>
            <a:off x="266760" y="1900080"/>
            <a:ext cx="8610480" cy="30578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3564000" y="3213000"/>
            <a:ext cx="1079280" cy="2793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6156360" y="3213000"/>
            <a:ext cx="1079640" cy="27936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3573360" y="3664080"/>
            <a:ext cx="1079640" cy="27936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6372360" y="3654360"/>
            <a:ext cx="1079280" cy="27936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3564000" y="4105440"/>
            <a:ext cx="1079280" cy="27936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6372360" y="4095720"/>
            <a:ext cx="1079280" cy="27936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8"/>
          <a:stretch/>
        </p:blipFill>
        <p:spPr>
          <a:xfrm>
            <a:off x="3348000" y="4546440"/>
            <a:ext cx="1584360" cy="27972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9"/>
          <a:stretch/>
        </p:blipFill>
        <p:spPr>
          <a:xfrm>
            <a:off x="6300720" y="4546440"/>
            <a:ext cx="1079640" cy="2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3T01:54:50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